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16.gif" ContentType="image/gif"/>
  <Override PartName="/ppt/media/image2.png" ContentType="image/png"/>
  <Override PartName="/ppt/media/image15.jpeg" ContentType="image/jpeg"/>
  <Override PartName="/ppt/media/image14.gif" ContentType="image/gif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start.wav" ContentType="audio/x-wav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78D03-ECB1-4B53-883C-AA9E0EF9F1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8175D-5CA1-49EE-B05D-BFBFA88A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DB9D9-0C0A-43DE-8917-DCDFEE3B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53F18-43F3-41B7-AB6D-6E5DBEB1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C9DD3-B2F2-4E84-8BC3-5745AC7B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230E1-71D3-4C14-A015-E35F5069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88A6B-528C-438C-9D08-823315ED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B91D8-2ADC-4FF7-BD42-9897B2B4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B74A6-C482-41C7-B15D-1DB9860D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31E23-A717-4402-971A-236263BD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45B14-8F82-4296-BE82-7D96F24EEC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CA2A93-14F3-4C91-A87D-785029994E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0F95-95DE-4C8D-AC25-78F67BF0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8C5E9C-AA68-4FE1-A68B-AF03DABB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1200E2-2883-4EAF-8C7E-746F10DE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B3C27E-6D0F-4523-8A19-1C275939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8A869-1636-4D04-9FF1-AD3F3231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813424-415F-4CD8-85B1-16A06AF6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CFEB92-4966-4D79-A9C7-BEA397AA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7530D2-60E9-486B-9E8B-1E72288A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CB714F-053A-44CC-845F-7364D4FD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19CF9-8C81-49DB-8C9B-69E593D3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CE4849-28CB-471C-97B4-CEC57D65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269B-A327-48BC-977F-91F3C34EC2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D17989-370E-4820-B7CD-1BBC4DDC39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491DFE-88ED-4B20-8308-C36B68457B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628384-5B28-48F3-8835-B2DF8DA1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5B3654-8777-4869-81E4-2C8BCEAC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400FD3-7246-455B-9B28-269C1866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5CCAEE-E50B-4EA3-A279-F6A53BD2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8B9A21-BE81-4A97-BACC-22DD0768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C8C4AF-F7D7-47C5-9C94-795E3E40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47537C-F5F9-45CA-9440-B373D78A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5C5C77-F062-4F41-B7D4-E66B88A6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E585D-9F91-4CED-8253-199C306DE1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910A86-2372-4BAA-B61F-FF4FED86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5E21F0-0D04-42D3-BDD5-BE16D240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9528A5-E0E3-4D04-BE9F-E1143AC0CD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D0292-9F63-4B31-B1B6-BB1DF37A36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7ACE7-6F9D-4BD2-ADA5-460A4A79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A11B9-F47A-4C0F-BEFF-0D4F42D8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EFD37-5177-4B50-BB1C-6682F833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05323-6692-4D59-91FB-57CE1CD3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1AD1A-F15A-46A0-98FC-CE403ADE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5BE21-223A-44F3-8AFD-D9D2E9C6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0AA20-A970-4CAC-8B9E-1089E07D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20778-745F-45DF-89B1-A19DF634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9F9A5-A89B-4595-9BD6-160305BC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A1A82-75EA-4F11-932D-F500EE6D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B2A5D-FD59-4CA6-80C7-0478284D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1FDF6-6F5F-4033-BF01-CB2D43FAD6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E99DF-6E99-440C-9243-A8F138D2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11B47-4819-4425-9E6A-1843D7DD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376A4-C17D-48E1-A405-46360521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ECF45-81DE-4A65-BD23-3476B14A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D0F56-F765-49E9-811D-7BD7FFB9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C2A8-21A5-43DE-A04D-2805EACA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0D4B1-5E99-4823-9A3A-83C85E01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CFE8B-3177-486E-BFC7-7499C747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50BEB-D1B9-4AE3-8F46-B05E7466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0F065-F3BD-4FE6-A4F8-F6A1262A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BDCAC-B073-4BE9-8C0D-F870020B4B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F089-97EB-4D15-9EB0-D28DB166A4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5CD2-DCC5-4ADB-A515-F875B242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639E-FEC0-42FB-A27D-449BE79C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D208-501E-4C9E-A931-2C3E01E1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35C0-419B-4248-9D70-6581D5E3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A7B8E-FFF2-4491-B6E8-CECC880E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80A1-9117-4989-B4F2-FD676D49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D963-84AA-4877-A18A-4FA2FAB4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C109-9EB8-4052-B459-27B879D0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1415-6B4B-481E-AD93-AA1221DB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508C-6409-4B62-A56C-3B046E92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5BB2-F080-4697-ADAE-7E4A4B4E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5CCE-5E92-41DD-B748-77A6ED39F2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FED89-0519-49E8-B5D3-0D3A5175C5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226BE-D528-4CAA-9A0A-E763431A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3A75E-9BD1-4D7E-9CC1-8D72BDFE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5F2E-D854-4844-B31F-AEF8262B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1B9B6-DA37-4018-B86B-2DF754B1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F33B7-97AA-49C3-9249-01743881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01C42-F5AC-40FE-8203-8564E46B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915032-B108-489B-BEF4-03999D26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1BE04-75F9-4D1F-A0F2-A371E779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19600-1A30-4C93-90AF-5E62F6B9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20A22-4801-4AAB-83F2-8CEC6950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06FFA-74E5-4243-936F-20D83555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1FB52-F681-4CBD-9946-0539A70A99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F0478F-6550-48CE-9D93-10023D29D5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BF8E-94DC-4050-925A-EC848F32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704F69-D8F5-46A0-8C60-1A2558F9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8CB43F-29D3-42DA-A9A3-35E0FEE7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458750-2095-4DBD-9C6E-FFE080C0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5730CE-EBD8-4B7C-A246-FC40A5B8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683A66-C53B-490B-9343-F74B01A2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45BB56-D4EE-4074-801A-D723ED58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1EAF45-3D15-4C2E-A9DB-C67BB9FF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36D28D-9AD4-4330-A245-5EBAC91C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CBF749-F354-4358-BE12-C81FD634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DE1053-09A4-49F8-AE72-B8E098B7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14E0-495F-49FF-B7E3-BD8F74F5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240CC0-BF5A-4262-95C2-A2FA38BD95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81CBF-9144-4E85-A63B-A87B76B183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86B47-831A-4EF0-9CFD-B840A58A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91537-51C8-4FB3-8D20-A391E3CC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85E5E-0368-4CAB-B9C3-C07D7F02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63D83-A23A-4FA9-92BC-EF476AFA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4AF1E-F4DF-4707-AB28-52183BC7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B6699-A953-4541-BF2B-9747C5FA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6A451-8B3A-4E5E-81A9-2C3009CA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86ACB-CA05-4B4D-91B7-066B5784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1DBC1-3019-42CE-923A-CE5D3809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83186-7896-4C06-97A9-13C0A77E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148E4-0471-4850-AF02-F245469A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A6834-EA4E-4754-940C-ED34201505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82E4A7-D000-4A1C-8989-92B1092C05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4933F-89C4-4C23-8E06-17C50F97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05E9AD-EDEB-4B8C-816E-53B4FBFD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BB7FB-C0F3-4D78-8FE8-96D29DCD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E5028-B405-4D44-83A8-A531E1E6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C2AB05-AC29-45E2-8323-54450401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15EE94-99C2-4971-8D49-088F05CD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1B09A-9C1A-490D-BC9C-1555BCA6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325D3-8DD5-4BCE-BCA5-DD704FA1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88D8E-9C43-44B8-85B8-D85D5070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ACD36-53F6-430A-8D62-F7E3D3F2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6DE3AA-AFDD-4D0D-9596-1229F379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7E51E5-8DEB-4C86-8203-FF5948AFC3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9861E9-1475-4C0A-8F2A-C09B3433F3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728110-D111-4424-A40F-73D1814A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5067AF-5256-44E7-80CF-25376540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B41B47-D804-4D14-B4A1-C7974636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B2B394-F864-4718-AAF9-B3FDE21E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BA649-5996-4ADF-A09D-D198AFE5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51B7A9-F3EC-4E4D-AF4E-0AA928D3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EF717A-AABD-4C2E-B14D-61193E31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861DD1-2CA5-4E11-B409-08FE5626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C9A596-6C6D-457D-9322-ECD3326B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A09EFA-26B5-4AFF-944F-31416D2F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2B89A8-7452-4168-BE97-820BDB5C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C340A8-CD2E-4D5F-9B76-62DD6DFA88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28856-EAC0-4BB5-93E8-2AA4D02D03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19689-6607-4425-A296-99D2EDB3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8D5FE-8CAD-4F33-8072-1D3FFA22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686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686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686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686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686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687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687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BF6D-67C1-449F-8798-EF5B74FE6D5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C1FC-FB20-43F0-8031-1D75D49F483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EF64-2526-46CD-8C43-12345356EAC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6787-C672-43A8-AC1F-D934364C66A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3788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8" name="椭圆 3789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9" name="椭圆 3789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789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789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789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789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F161-9DDB-4E2B-833B-4E0BBB37F4A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EA25-1E9C-4B9F-99EF-6BD855266F0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3FAC-A1D4-423C-BE24-E0D0FE22687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23F4-8EC7-4367-BCA1-66C793AF77C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DA38-1DEB-4064-9639-60A3DB76B2C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AE43-2BCC-4DB3-9B60-5101123CCFF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E8D1-15BD-4DED-A61C-DEEC765B296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C619-B2B2-4A13-9ED9-59C4DE283DE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矩形 31745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5" name="矩形 31746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1692360" y="47628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乘法</a:t>
            </a:r>
            <a:endParaRPr b="0" i="1" lang="en-US" sz="5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97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1"/>
          <a:stretch/>
        </p:blipFill>
        <p:spPr>
          <a:xfrm>
            <a:off x="539640" y="62064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98" name="TextBox 3"/>
          <p:cNvSpPr/>
          <p:nvPr/>
        </p:nvSpPr>
        <p:spPr>
          <a:xfrm>
            <a:off x="692280" y="1552680"/>
            <a:ext cx="7335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连续求一个数的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几分之几是多少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9" name="TextBox 3"/>
          <p:cNvSpPr/>
          <p:nvPr/>
        </p:nvSpPr>
        <p:spPr>
          <a:xfrm>
            <a:off x="0" y="2708280"/>
            <a:ext cx="8280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9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求比一个数多（少）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几分之几的数是多少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705" name="图片 27650" descr=""/>
          <p:cNvPicPr/>
          <p:nvPr/>
        </p:nvPicPr>
        <p:blipFill>
          <a:blip r:embed="rId2"/>
          <a:stretch/>
        </p:blipFill>
        <p:spPr>
          <a:xfrm>
            <a:off x="318960" y="243000"/>
            <a:ext cx="8448840" cy="63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14"/>
          <p:cNvSpPr/>
          <p:nvPr/>
        </p:nvSpPr>
        <p:spPr>
          <a:xfrm>
            <a:off x="250920" y="5445000"/>
            <a:ext cx="8066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研讨问题：请你结合图说说你是怎样想的。（求婴儿每分钟心跳次数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就是求青少年的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＋     ）是多少。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"/>
          <p:cNvSpPr/>
          <p:nvPr/>
        </p:nvSpPr>
        <p:spPr>
          <a:xfrm>
            <a:off x="393840" y="1413000"/>
            <a:ext cx="501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理解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9" name="Text Box 5"/>
          <p:cNvSpPr/>
          <p:nvPr/>
        </p:nvSpPr>
        <p:spPr>
          <a:xfrm>
            <a:off x="485640" y="87480"/>
            <a:ext cx="38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9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0" name="Text Box 13"/>
          <p:cNvSpPr/>
          <p:nvPr/>
        </p:nvSpPr>
        <p:spPr>
          <a:xfrm>
            <a:off x="250920" y="3967200"/>
            <a:ext cx="842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研讨问题：请你结合图说说你是怎样想的。（先求出婴儿比青少年多的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再加上和青少年同样多的，就是婴儿每分钟心跳次数。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11" name="组合 28679"/>
          <p:cNvGrpSpPr/>
          <p:nvPr/>
        </p:nvGrpSpPr>
        <p:grpSpPr>
          <a:xfrm>
            <a:off x="1560600" y="1871640"/>
            <a:ext cx="4811400" cy="1628640"/>
            <a:chOff x="1560600" y="1871640"/>
            <a:chExt cx="4811400" cy="1628640"/>
          </a:xfrm>
        </p:grpSpPr>
        <p:sp>
          <p:nvSpPr>
            <p:cNvPr id="712" name="左大括号 28680"/>
            <p:cNvSpPr/>
            <p:nvPr/>
          </p:nvSpPr>
          <p:spPr>
            <a:xfrm flipV="1" rot="5400000">
              <a:off x="3387600" y="1173600"/>
              <a:ext cx="195480" cy="2160360"/>
            </a:xfrm>
            <a:custGeom>
              <a:avLst/>
              <a:gdLst>
                <a:gd name="textAreaLeft" fmla="*/ 124920 w 195480"/>
                <a:gd name="textAreaRight" fmla="*/ 195840 w 195480"/>
                <a:gd name="textAreaTop" fmla="*/ 56160 h 2160360"/>
                <a:gd name="textAreaBottom" fmla="*/ 2104200 h 21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713" name="组合 28681"/>
            <p:cNvGrpSpPr/>
            <p:nvPr/>
          </p:nvGrpSpPr>
          <p:grpSpPr>
            <a:xfrm>
              <a:off x="1560600" y="1871640"/>
              <a:ext cx="4811400" cy="1628640"/>
              <a:chOff x="1560600" y="1871640"/>
              <a:chExt cx="4811400" cy="1628640"/>
            </a:xfrm>
          </p:grpSpPr>
          <p:pic>
            <p:nvPicPr>
              <p:cNvPr id="714" name="图片 28682" descr="17"/>
              <p:cNvPicPr/>
              <p:nvPr/>
            </p:nvPicPr>
            <p:blipFill>
              <a:blip r:embed="rId1"/>
              <a:stretch/>
            </p:blipFill>
            <p:spPr>
              <a:xfrm>
                <a:off x="1560600" y="2349360"/>
                <a:ext cx="4811400" cy="115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矩形 28683"/>
              <p:cNvSpPr/>
              <p:nvPr/>
            </p:nvSpPr>
            <p:spPr>
              <a:xfrm>
                <a:off x="3161520" y="1871640"/>
                <a:ext cx="58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“</a:t>
                </a: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”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716" name="组合 28684"/>
          <p:cNvGrpSpPr/>
          <p:nvPr/>
        </p:nvGrpSpPr>
        <p:grpSpPr>
          <a:xfrm>
            <a:off x="250920" y="3357720"/>
            <a:ext cx="5472000" cy="815040"/>
            <a:chOff x="250920" y="3357720"/>
            <a:chExt cx="5472000" cy="815040"/>
          </a:xfrm>
        </p:grpSpPr>
        <p:sp>
          <p:nvSpPr>
            <p:cNvPr id="717" name="Text Box 8"/>
            <p:cNvSpPr/>
            <p:nvPr/>
          </p:nvSpPr>
          <p:spPr>
            <a:xfrm>
              <a:off x="250920" y="358308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718" name="组合 28686"/>
            <p:cNvGrpSpPr/>
            <p:nvPr/>
          </p:nvGrpSpPr>
          <p:grpSpPr>
            <a:xfrm>
              <a:off x="1258920" y="3357720"/>
              <a:ext cx="4464000" cy="815040"/>
              <a:chOff x="1258920" y="3357720"/>
              <a:chExt cx="4464000" cy="815040"/>
            </a:xfrm>
          </p:grpSpPr>
          <p:sp>
            <p:nvSpPr>
              <p:cNvPr id="719" name="文本框 28687"/>
              <p:cNvSpPr/>
              <p:nvPr/>
            </p:nvSpPr>
            <p:spPr>
              <a:xfrm>
                <a:off x="1258920" y="3594240"/>
                <a:ext cx="446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5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5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5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0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35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（次）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720" name="组合 28688"/>
              <p:cNvGrpSpPr/>
              <p:nvPr/>
            </p:nvGrpSpPr>
            <p:grpSpPr>
              <a:xfrm>
                <a:off x="2448000" y="3357720"/>
                <a:ext cx="522360" cy="815040"/>
                <a:chOff x="2448000" y="3357720"/>
                <a:chExt cx="522360" cy="815040"/>
              </a:xfrm>
            </p:grpSpPr>
            <p:sp>
              <p:nvSpPr>
                <p:cNvPr id="721" name="文本框 28689"/>
                <p:cNvSpPr/>
                <p:nvPr/>
              </p:nvSpPr>
              <p:spPr>
                <a:xfrm>
                  <a:off x="2465640" y="37130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22" name="文本框 28690"/>
                <p:cNvSpPr/>
                <p:nvPr/>
              </p:nvSpPr>
              <p:spPr>
                <a:xfrm>
                  <a:off x="2470320" y="33577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23" name="直接连接符 28691"/>
                <p:cNvSpPr/>
                <p:nvPr/>
              </p:nvSpPr>
              <p:spPr>
                <a:xfrm>
                  <a:off x="2448000" y="37764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724" name="组合 28692"/>
          <p:cNvGrpSpPr/>
          <p:nvPr/>
        </p:nvGrpSpPr>
        <p:grpSpPr>
          <a:xfrm>
            <a:off x="239760" y="4724280"/>
            <a:ext cx="5916600" cy="815400"/>
            <a:chOff x="239760" y="4724280"/>
            <a:chExt cx="5916600" cy="815400"/>
          </a:xfrm>
        </p:grpSpPr>
        <p:sp>
          <p:nvSpPr>
            <p:cNvPr id="725" name="Text Box 11"/>
            <p:cNvSpPr/>
            <p:nvPr/>
          </p:nvSpPr>
          <p:spPr>
            <a:xfrm>
              <a:off x="239760" y="493092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726" name="组合 28694"/>
            <p:cNvGrpSpPr/>
            <p:nvPr/>
          </p:nvGrpSpPr>
          <p:grpSpPr>
            <a:xfrm>
              <a:off x="1258920" y="4724280"/>
              <a:ext cx="4897440" cy="815400"/>
              <a:chOff x="1258920" y="4724280"/>
              <a:chExt cx="4897440" cy="815400"/>
            </a:xfrm>
          </p:grpSpPr>
          <p:grpSp>
            <p:nvGrpSpPr>
              <p:cNvPr id="727" name="组合 28695"/>
              <p:cNvGrpSpPr/>
              <p:nvPr/>
            </p:nvGrpSpPr>
            <p:grpSpPr>
              <a:xfrm>
                <a:off x="3989520" y="4724280"/>
                <a:ext cx="522360" cy="815400"/>
                <a:chOff x="3989520" y="4724280"/>
                <a:chExt cx="522360" cy="815400"/>
              </a:xfrm>
            </p:grpSpPr>
            <p:sp>
              <p:nvSpPr>
                <p:cNvPr id="728" name="文本框 28696"/>
                <p:cNvSpPr/>
                <p:nvPr/>
              </p:nvSpPr>
              <p:spPr>
                <a:xfrm>
                  <a:off x="4007160" y="50799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29" name="文本框 28697"/>
                <p:cNvSpPr/>
                <p:nvPr/>
              </p:nvSpPr>
              <p:spPr>
                <a:xfrm>
                  <a:off x="4011840" y="47242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9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30" name="直接连接符 28698"/>
                <p:cNvSpPr/>
                <p:nvPr/>
              </p:nvSpPr>
              <p:spPr>
                <a:xfrm>
                  <a:off x="3989520" y="51433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731" name="组合 28699"/>
              <p:cNvGrpSpPr/>
              <p:nvPr/>
            </p:nvGrpSpPr>
            <p:grpSpPr>
              <a:xfrm>
                <a:off x="2559240" y="4724280"/>
                <a:ext cx="521640" cy="815400"/>
                <a:chOff x="2559240" y="4724280"/>
                <a:chExt cx="521640" cy="815400"/>
              </a:xfrm>
            </p:grpSpPr>
            <p:sp>
              <p:nvSpPr>
                <p:cNvPr id="732" name="文本框 28700"/>
                <p:cNvSpPr/>
                <p:nvPr/>
              </p:nvSpPr>
              <p:spPr>
                <a:xfrm>
                  <a:off x="2576520" y="507996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33" name="文本框 28701"/>
                <p:cNvSpPr/>
                <p:nvPr/>
              </p:nvSpPr>
              <p:spPr>
                <a:xfrm>
                  <a:off x="2581200" y="472428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34" name="直接连接符 28702"/>
                <p:cNvSpPr/>
                <p:nvPr/>
              </p:nvSpPr>
              <p:spPr>
                <a:xfrm>
                  <a:off x="2559240" y="514332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735" name="文本框 28703"/>
              <p:cNvSpPr/>
              <p:nvPr/>
            </p:nvSpPr>
            <p:spPr>
              <a:xfrm>
                <a:off x="1258920" y="4951440"/>
                <a:ext cx="4897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5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（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  ）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5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35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（次）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736" name="组合 28704"/>
          <p:cNvGrpSpPr/>
          <p:nvPr/>
        </p:nvGrpSpPr>
        <p:grpSpPr>
          <a:xfrm>
            <a:off x="4044960" y="5689440"/>
            <a:ext cx="522360" cy="815400"/>
            <a:chOff x="4044960" y="5689440"/>
            <a:chExt cx="522360" cy="815400"/>
          </a:xfrm>
        </p:grpSpPr>
        <p:sp>
          <p:nvSpPr>
            <p:cNvPr id="737" name="文本框 28705"/>
            <p:cNvSpPr/>
            <p:nvPr/>
          </p:nvSpPr>
          <p:spPr>
            <a:xfrm>
              <a:off x="4062600" y="60451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38" name="文本框 28706"/>
            <p:cNvSpPr/>
            <p:nvPr/>
          </p:nvSpPr>
          <p:spPr>
            <a:xfrm>
              <a:off x="4067280" y="568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39" name="直接连接符 28707"/>
            <p:cNvSpPr/>
            <p:nvPr/>
          </p:nvSpPr>
          <p:spPr>
            <a:xfrm>
              <a:off x="4044960" y="61084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"/>
          <p:cNvSpPr/>
          <p:nvPr/>
        </p:nvSpPr>
        <p:spPr>
          <a:xfrm>
            <a:off x="393840" y="1413000"/>
            <a:ext cx="501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三）回顾与反思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2" name="Text Box 5"/>
          <p:cNvSpPr/>
          <p:nvPr/>
        </p:nvSpPr>
        <p:spPr>
          <a:xfrm>
            <a:off x="485640" y="87480"/>
            <a:ext cx="38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9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3" name="Text Box 6"/>
          <p:cNvSpPr/>
          <p:nvPr/>
        </p:nvSpPr>
        <p:spPr>
          <a:xfrm>
            <a:off x="533520" y="308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两种解题思路有什么不同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4" name="TextBox 124"/>
          <p:cNvSpPr/>
          <p:nvPr/>
        </p:nvSpPr>
        <p:spPr>
          <a:xfrm>
            <a:off x="612720" y="5772240"/>
            <a:ext cx="7920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结：虽然两种解法不同，都是依据了分数乘法的意义，求一个数的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几分之几用乘法计算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5" name="Text Box 11"/>
          <p:cNvSpPr/>
          <p:nvPr/>
        </p:nvSpPr>
        <p:spPr>
          <a:xfrm>
            <a:off x="996840" y="3530520"/>
            <a:ext cx="839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刚才用两种方法求出了婴儿的每分钟心跳次数，那么对不对呢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可以怎样检查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5508720" y="4937040"/>
            <a:ext cx="28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3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－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）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÷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47" name="组合 29704"/>
          <p:cNvGrpSpPr/>
          <p:nvPr/>
        </p:nvGrpSpPr>
        <p:grpSpPr>
          <a:xfrm>
            <a:off x="395280" y="2060640"/>
            <a:ext cx="4464000" cy="815040"/>
            <a:chOff x="395280" y="2060640"/>
            <a:chExt cx="4464000" cy="815040"/>
          </a:xfrm>
        </p:grpSpPr>
        <p:sp>
          <p:nvSpPr>
            <p:cNvPr id="748" name="文本框 29705"/>
            <p:cNvSpPr/>
            <p:nvPr/>
          </p:nvSpPr>
          <p:spPr>
            <a:xfrm>
              <a:off x="395280" y="2297160"/>
              <a:ext cx="446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5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3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次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749" name="组合 29706"/>
            <p:cNvGrpSpPr/>
            <p:nvPr/>
          </p:nvGrpSpPr>
          <p:grpSpPr>
            <a:xfrm>
              <a:off x="1584360" y="2060640"/>
              <a:ext cx="522360" cy="815040"/>
              <a:chOff x="1584360" y="2060640"/>
              <a:chExt cx="522360" cy="815040"/>
            </a:xfrm>
          </p:grpSpPr>
          <p:sp>
            <p:nvSpPr>
              <p:cNvPr id="750" name="文本框 29707"/>
              <p:cNvSpPr/>
              <p:nvPr/>
            </p:nvSpPr>
            <p:spPr>
              <a:xfrm>
                <a:off x="1602000" y="2415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1" name="文本框 29708"/>
              <p:cNvSpPr/>
              <p:nvPr/>
            </p:nvSpPr>
            <p:spPr>
              <a:xfrm>
                <a:off x="1606680" y="2060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2" name="直接连接符 29709"/>
              <p:cNvSpPr/>
              <p:nvPr/>
            </p:nvSpPr>
            <p:spPr>
              <a:xfrm>
                <a:off x="1584360" y="2479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753" name="组合 29710"/>
          <p:cNvGrpSpPr/>
          <p:nvPr/>
        </p:nvGrpSpPr>
        <p:grpSpPr>
          <a:xfrm>
            <a:off x="4572000" y="2073240"/>
            <a:ext cx="4897440" cy="815400"/>
            <a:chOff x="4572000" y="2073240"/>
            <a:chExt cx="4897440" cy="815400"/>
          </a:xfrm>
        </p:grpSpPr>
        <p:grpSp>
          <p:nvGrpSpPr>
            <p:cNvPr id="754" name="组合 29711"/>
            <p:cNvGrpSpPr/>
            <p:nvPr/>
          </p:nvGrpSpPr>
          <p:grpSpPr>
            <a:xfrm>
              <a:off x="7302600" y="2073240"/>
              <a:ext cx="522360" cy="815400"/>
              <a:chOff x="7302600" y="2073240"/>
              <a:chExt cx="522360" cy="815400"/>
            </a:xfrm>
          </p:grpSpPr>
          <p:sp>
            <p:nvSpPr>
              <p:cNvPr id="755" name="文本框 29712"/>
              <p:cNvSpPr/>
              <p:nvPr/>
            </p:nvSpPr>
            <p:spPr>
              <a:xfrm>
                <a:off x="7320240" y="24289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6" name="文本框 29713"/>
              <p:cNvSpPr/>
              <p:nvPr/>
            </p:nvSpPr>
            <p:spPr>
              <a:xfrm>
                <a:off x="7324920" y="2073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7" name="直接连接符 29714"/>
              <p:cNvSpPr/>
              <p:nvPr/>
            </p:nvSpPr>
            <p:spPr>
              <a:xfrm>
                <a:off x="7302600" y="24922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758" name="组合 29715"/>
            <p:cNvGrpSpPr/>
            <p:nvPr/>
          </p:nvGrpSpPr>
          <p:grpSpPr>
            <a:xfrm>
              <a:off x="5872320" y="2073240"/>
              <a:ext cx="521640" cy="815400"/>
              <a:chOff x="5872320" y="2073240"/>
              <a:chExt cx="521640" cy="815400"/>
            </a:xfrm>
          </p:grpSpPr>
          <p:sp>
            <p:nvSpPr>
              <p:cNvPr id="759" name="文本框 29716"/>
              <p:cNvSpPr/>
              <p:nvPr/>
            </p:nvSpPr>
            <p:spPr>
              <a:xfrm>
                <a:off x="5889600" y="242892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60" name="文本框 29717"/>
              <p:cNvSpPr/>
              <p:nvPr/>
            </p:nvSpPr>
            <p:spPr>
              <a:xfrm>
                <a:off x="5894280" y="20732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61" name="直接连接符 29718"/>
              <p:cNvSpPr/>
              <p:nvPr/>
            </p:nvSpPr>
            <p:spPr>
              <a:xfrm>
                <a:off x="5872320" y="249228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762" name="文本框 29719"/>
            <p:cNvSpPr/>
            <p:nvPr/>
          </p:nvSpPr>
          <p:spPr>
            <a:xfrm>
              <a:off x="4572000" y="2300400"/>
              <a:ext cx="489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5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  ）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5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3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（次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63" name="组合 29720"/>
          <p:cNvGrpSpPr/>
          <p:nvPr/>
        </p:nvGrpSpPr>
        <p:grpSpPr>
          <a:xfrm>
            <a:off x="7862760" y="4703760"/>
            <a:ext cx="522360" cy="815400"/>
            <a:chOff x="7862760" y="4703760"/>
            <a:chExt cx="522360" cy="815400"/>
          </a:xfrm>
        </p:grpSpPr>
        <p:sp>
          <p:nvSpPr>
            <p:cNvPr id="764" name="文本框 29721"/>
            <p:cNvSpPr/>
            <p:nvPr/>
          </p:nvSpPr>
          <p:spPr>
            <a:xfrm>
              <a:off x="7880400" y="5059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65" name="文本框 29722"/>
            <p:cNvSpPr/>
            <p:nvPr/>
          </p:nvSpPr>
          <p:spPr>
            <a:xfrm>
              <a:off x="7885080" y="47037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66" name="直接连接符 29723"/>
            <p:cNvSpPr/>
            <p:nvPr/>
          </p:nvSpPr>
          <p:spPr>
            <a:xfrm>
              <a:off x="7862760" y="51228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67" name="组合 29724"/>
          <p:cNvGrpSpPr/>
          <p:nvPr/>
        </p:nvGrpSpPr>
        <p:grpSpPr>
          <a:xfrm>
            <a:off x="317520" y="4344840"/>
            <a:ext cx="5135040" cy="1407240"/>
            <a:chOff x="317520" y="4344840"/>
            <a:chExt cx="5135040" cy="1407240"/>
          </a:xfrm>
        </p:grpSpPr>
        <p:grpSp>
          <p:nvGrpSpPr>
            <p:cNvPr id="768" name="组合 29725"/>
            <p:cNvGrpSpPr/>
            <p:nvPr/>
          </p:nvGrpSpPr>
          <p:grpSpPr>
            <a:xfrm>
              <a:off x="317520" y="4344840"/>
              <a:ext cx="4874400" cy="1251000"/>
              <a:chOff x="317520" y="4344840"/>
              <a:chExt cx="4874400" cy="1251000"/>
            </a:xfrm>
          </p:grpSpPr>
          <p:pic>
            <p:nvPicPr>
              <p:cNvPr id="769" name="图片 29726" descr="18"/>
              <p:cNvPicPr/>
              <p:nvPr/>
            </p:nvPicPr>
            <p:blipFill>
              <a:blip r:embed="rId1"/>
              <a:stretch/>
            </p:blipFill>
            <p:spPr>
              <a:xfrm>
                <a:off x="682200" y="4516200"/>
                <a:ext cx="450972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0" name="文本框 29727"/>
              <p:cNvSpPr/>
              <p:nvPr/>
            </p:nvSpPr>
            <p:spPr>
              <a:xfrm>
                <a:off x="317520" y="4344840"/>
                <a:ext cx="136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青少年：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71" name="文本框 29728"/>
              <p:cNvSpPr/>
              <p:nvPr/>
            </p:nvSpPr>
            <p:spPr>
              <a:xfrm>
                <a:off x="599760" y="4947840"/>
                <a:ext cx="136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婴儿：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772" name="文本框 29729"/>
            <p:cNvSpPr/>
            <p:nvPr/>
          </p:nvSpPr>
          <p:spPr>
            <a:xfrm>
              <a:off x="2117520" y="4748400"/>
              <a:ext cx="79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7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次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3" name="文本框 29730"/>
            <p:cNvSpPr/>
            <p:nvPr/>
          </p:nvSpPr>
          <p:spPr>
            <a:xfrm>
              <a:off x="2981160" y="5353200"/>
              <a:ext cx="115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3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次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4" name="文本框 29731"/>
            <p:cNvSpPr/>
            <p:nvPr/>
          </p:nvSpPr>
          <p:spPr>
            <a:xfrm>
              <a:off x="3580920" y="460548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比青少年多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巩固练习，提升认识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图片 30723" descr="19"/>
          <p:cNvPicPr/>
          <p:nvPr/>
        </p:nvPicPr>
        <p:blipFill>
          <a:blip r:embed="rId1"/>
          <a:stretch/>
        </p:blipFill>
        <p:spPr>
          <a:xfrm>
            <a:off x="1116000" y="2459160"/>
            <a:ext cx="5045040" cy="1258920"/>
          </a:xfrm>
          <a:prstGeom prst="rect">
            <a:avLst/>
          </a:prstGeom>
          <a:ln w="0">
            <a:noFill/>
          </a:ln>
        </p:spPr>
      </p:pic>
      <p:sp>
        <p:nvSpPr>
          <p:cNvPr id="777" name="矩形 30724"/>
          <p:cNvSpPr/>
          <p:nvPr/>
        </p:nvSpPr>
        <p:spPr>
          <a:xfrm>
            <a:off x="3538800" y="155736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噪音对人的健康有害，绿化造林可降低噪音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8" name="矩形 30725"/>
          <p:cNvSpPr/>
          <p:nvPr/>
        </p:nvSpPr>
        <p:spPr>
          <a:xfrm>
            <a:off x="3671280" y="2081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8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9" name="矩形 30726"/>
          <p:cNvSpPr/>
          <p:nvPr/>
        </p:nvSpPr>
        <p:spPr>
          <a:xfrm>
            <a:off x="3556080" y="3573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噪音降低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80" name="组合 30727"/>
          <p:cNvGrpSpPr/>
          <p:nvPr/>
        </p:nvGrpSpPr>
        <p:grpSpPr>
          <a:xfrm>
            <a:off x="4538520" y="3357720"/>
            <a:ext cx="522360" cy="815040"/>
            <a:chOff x="4538520" y="3357720"/>
            <a:chExt cx="522360" cy="815040"/>
          </a:xfrm>
        </p:grpSpPr>
        <p:sp>
          <p:nvSpPr>
            <p:cNvPr id="781" name="文本框 30728"/>
            <p:cNvSpPr/>
            <p:nvPr/>
          </p:nvSpPr>
          <p:spPr>
            <a:xfrm>
              <a:off x="4556160" y="3713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2" name="文本框 30729"/>
            <p:cNvSpPr/>
            <p:nvPr/>
          </p:nvSpPr>
          <p:spPr>
            <a:xfrm>
              <a:off x="4560840" y="3357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3" name="直接连接符 30730"/>
            <p:cNvSpPr/>
            <p:nvPr/>
          </p:nvSpPr>
          <p:spPr>
            <a:xfrm>
              <a:off x="4538520" y="3776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84" name="矩形 30731"/>
          <p:cNvSpPr/>
          <p:nvPr/>
        </p:nvSpPr>
        <p:spPr>
          <a:xfrm>
            <a:off x="6227640" y="247032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化带降低了噪音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以后，人听到的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音是多少分贝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85" name="组合 30732"/>
          <p:cNvGrpSpPr/>
          <p:nvPr/>
        </p:nvGrpSpPr>
        <p:grpSpPr>
          <a:xfrm>
            <a:off x="2124000" y="3860640"/>
            <a:ext cx="4908600" cy="2081520"/>
            <a:chOff x="2124000" y="3860640"/>
            <a:chExt cx="4908600" cy="2081520"/>
          </a:xfrm>
        </p:grpSpPr>
        <p:grpSp>
          <p:nvGrpSpPr>
            <p:cNvPr id="786" name="组合 30733"/>
            <p:cNvGrpSpPr/>
            <p:nvPr/>
          </p:nvGrpSpPr>
          <p:grpSpPr>
            <a:xfrm>
              <a:off x="2124000" y="4168800"/>
              <a:ext cx="4908600" cy="1773360"/>
              <a:chOff x="2124000" y="4168800"/>
              <a:chExt cx="4908600" cy="1773360"/>
            </a:xfrm>
          </p:grpSpPr>
          <p:sp>
            <p:nvSpPr>
              <p:cNvPr id="787" name="左大括号 30734"/>
              <p:cNvSpPr/>
              <p:nvPr/>
            </p:nvSpPr>
            <p:spPr>
              <a:xfrm flipV="1" rot="5400000">
                <a:off x="6151320" y="4470480"/>
                <a:ext cx="73080" cy="540000"/>
              </a:xfrm>
              <a:custGeom>
                <a:avLst/>
                <a:gdLst>
                  <a:gd name="textAreaLeft" fmla="*/ 46800 w 73080"/>
                  <a:gd name="textAreaRight" fmla="*/ 73440 w 73080"/>
                  <a:gd name="textAreaTop" fmla="*/ 14040 h 540000"/>
                  <a:gd name="textAreaBottom" fmla="*/ 525960 h 54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788" name="组合 30735"/>
              <p:cNvGrpSpPr/>
              <p:nvPr/>
            </p:nvGrpSpPr>
            <p:grpSpPr>
              <a:xfrm>
                <a:off x="2124000" y="4168800"/>
                <a:ext cx="4908600" cy="1773360"/>
                <a:chOff x="2124000" y="4168800"/>
                <a:chExt cx="4908600" cy="1773360"/>
              </a:xfrm>
            </p:grpSpPr>
            <p:grpSp>
              <p:nvGrpSpPr>
                <p:cNvPr id="789" name="组合 30736"/>
                <p:cNvGrpSpPr/>
                <p:nvPr/>
              </p:nvGrpSpPr>
              <p:grpSpPr>
                <a:xfrm>
                  <a:off x="2124000" y="4833720"/>
                  <a:ext cx="4348440" cy="144000"/>
                  <a:chOff x="2124000" y="4833720"/>
                  <a:chExt cx="4348440" cy="144000"/>
                </a:xfrm>
              </p:grpSpPr>
              <p:sp>
                <p:nvSpPr>
                  <p:cNvPr id="790" name="直接连接符 30737"/>
                  <p:cNvSpPr/>
                  <p:nvPr/>
                </p:nvSpPr>
                <p:spPr>
                  <a:xfrm>
                    <a:off x="2124000" y="4966560"/>
                    <a:ext cx="3778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91" name="直接连接符 30738"/>
                  <p:cNvSpPr/>
                  <p:nvPr/>
                </p:nvSpPr>
                <p:spPr>
                  <a:xfrm>
                    <a:off x="5913360" y="4966560"/>
                    <a:ext cx="5400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92" name="直接连接符 30739"/>
                  <p:cNvSpPr/>
                  <p:nvPr/>
                </p:nvSpPr>
                <p:spPr>
                  <a:xfrm flipV="1">
                    <a:off x="2124000" y="4833720"/>
                    <a:ext cx="0" cy="144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93" name="直接连接符 30740"/>
                  <p:cNvSpPr/>
                  <p:nvPr/>
                </p:nvSpPr>
                <p:spPr>
                  <a:xfrm flipV="1">
                    <a:off x="5913360" y="4833720"/>
                    <a:ext cx="0" cy="144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94" name="直接连接符 30741"/>
                  <p:cNvSpPr/>
                  <p:nvPr/>
                </p:nvSpPr>
                <p:spPr>
                  <a:xfrm flipV="1">
                    <a:off x="6472440" y="4833720"/>
                    <a:ext cx="0" cy="144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795" name="左大括号 30742"/>
                <p:cNvSpPr/>
                <p:nvPr/>
              </p:nvSpPr>
              <p:spPr>
                <a:xfrm rot="16200000">
                  <a:off x="3916440" y="3196080"/>
                  <a:ext cx="193320" cy="3778560"/>
                </a:xfrm>
                <a:custGeom>
                  <a:avLst/>
                  <a:gdLst>
                    <a:gd name="textAreaLeft" fmla="*/ 123480 w 193320"/>
                    <a:gd name="textAreaRight" fmla="*/ 193680 w 193320"/>
                    <a:gd name="textAreaTop" fmla="*/ 98280 h 3778560"/>
                    <a:gd name="textAreaBottom" fmla="*/ 3680280 h 377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96" name="矩形 30743"/>
                <p:cNvSpPr/>
                <p:nvPr/>
              </p:nvSpPr>
              <p:spPr>
                <a:xfrm>
                  <a:off x="3106800" y="5128920"/>
                  <a:ext cx="273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人听到多少分贝？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97" name="左大括号 30744"/>
                <p:cNvSpPr/>
                <p:nvPr/>
              </p:nvSpPr>
              <p:spPr>
                <a:xfrm rot="16200000">
                  <a:off x="4160160" y="3384720"/>
                  <a:ext cx="198360" cy="4222440"/>
                </a:xfrm>
                <a:custGeom>
                  <a:avLst/>
                  <a:gdLst>
                    <a:gd name="textAreaLeft" fmla="*/ 126720 w 198360"/>
                    <a:gd name="textAreaRight" fmla="*/ 198720 w 198360"/>
                    <a:gd name="textAreaTop" fmla="*/ 109800 h 4222440"/>
                    <a:gd name="textAreaBottom" fmla="*/ 4112640 h 4222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98" name="矩形 30745"/>
                <p:cNvSpPr/>
                <p:nvPr/>
              </p:nvSpPr>
              <p:spPr>
                <a:xfrm>
                  <a:off x="3732120" y="5543280"/>
                  <a:ext cx="273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0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分贝？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99" name="文本框 30746"/>
                <p:cNvSpPr/>
                <p:nvPr/>
              </p:nvSpPr>
              <p:spPr>
                <a:xfrm>
                  <a:off x="5808600" y="4402080"/>
                  <a:ext cx="1224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降低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800" name="组合 30747"/>
                <p:cNvGrpSpPr/>
                <p:nvPr/>
              </p:nvGrpSpPr>
              <p:grpSpPr>
                <a:xfrm>
                  <a:off x="6445440" y="4168800"/>
                  <a:ext cx="521640" cy="815040"/>
                  <a:chOff x="6445440" y="4168800"/>
                  <a:chExt cx="521640" cy="815040"/>
                </a:xfrm>
              </p:grpSpPr>
              <p:sp>
                <p:nvSpPr>
                  <p:cNvPr id="801" name="文本框 30748"/>
                  <p:cNvSpPr/>
                  <p:nvPr/>
                </p:nvSpPr>
                <p:spPr>
                  <a:xfrm>
                    <a:off x="6462720" y="452412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8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802" name="文本框 30749"/>
                  <p:cNvSpPr/>
                  <p:nvPr/>
                </p:nvSpPr>
                <p:spPr>
                  <a:xfrm>
                    <a:off x="6467400" y="416880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803" name="直接连接符 30750"/>
                  <p:cNvSpPr/>
                  <p:nvPr/>
                </p:nvSpPr>
                <p:spPr>
                  <a:xfrm>
                    <a:off x="6445440" y="458748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804" name="左大括号 30751"/>
                <p:cNvSpPr/>
                <p:nvPr/>
              </p:nvSpPr>
              <p:spPr>
                <a:xfrm flipV="1" rot="5400000">
                  <a:off x="4200120" y="2178360"/>
                  <a:ext cx="198000" cy="4222800"/>
                </a:xfrm>
                <a:custGeom>
                  <a:avLst/>
                  <a:gdLst>
                    <a:gd name="textAreaLeft" fmla="*/ 126720 w 198000"/>
                    <a:gd name="textAreaRight" fmla="*/ 198360 w 198000"/>
                    <a:gd name="textAreaTop" fmla="*/ 109800 h 4222800"/>
                    <a:gd name="textAreaBottom" fmla="*/ 4113000 h 422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805" name="文本框 30752"/>
            <p:cNvSpPr/>
            <p:nvPr/>
          </p:nvSpPr>
          <p:spPr>
            <a:xfrm>
              <a:off x="3865680" y="3860640"/>
              <a:ext cx="11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806" name="组合 30753"/>
          <p:cNvGrpSpPr/>
          <p:nvPr/>
        </p:nvGrpSpPr>
        <p:grpSpPr>
          <a:xfrm>
            <a:off x="228600" y="5722920"/>
            <a:ext cx="4343400" cy="1042200"/>
            <a:chOff x="228600" y="5722920"/>
            <a:chExt cx="4343400" cy="1042200"/>
          </a:xfrm>
        </p:grpSpPr>
        <p:sp>
          <p:nvSpPr>
            <p:cNvPr id="807" name="Text Box 4"/>
            <p:cNvSpPr/>
            <p:nvPr/>
          </p:nvSpPr>
          <p:spPr>
            <a:xfrm>
              <a:off x="228600" y="5722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08" name="文本框 30755"/>
            <p:cNvSpPr/>
            <p:nvPr/>
          </p:nvSpPr>
          <p:spPr>
            <a:xfrm>
              <a:off x="250920" y="6165720"/>
              <a:ext cx="432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0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（分贝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809" name="组合 30756"/>
            <p:cNvGrpSpPr/>
            <p:nvPr/>
          </p:nvGrpSpPr>
          <p:grpSpPr>
            <a:xfrm>
              <a:off x="1420920" y="5950080"/>
              <a:ext cx="522360" cy="815040"/>
              <a:chOff x="1420920" y="5950080"/>
              <a:chExt cx="522360" cy="815040"/>
            </a:xfrm>
          </p:grpSpPr>
          <p:sp>
            <p:nvSpPr>
              <p:cNvPr id="810" name="文本框 30757"/>
              <p:cNvSpPr/>
              <p:nvPr/>
            </p:nvSpPr>
            <p:spPr>
              <a:xfrm>
                <a:off x="1438560" y="6305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11" name="文本框 30758"/>
              <p:cNvSpPr/>
              <p:nvPr/>
            </p:nvSpPr>
            <p:spPr>
              <a:xfrm>
                <a:off x="1443240" y="5950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12" name="直接连接符 30759"/>
              <p:cNvSpPr/>
              <p:nvPr/>
            </p:nvSpPr>
            <p:spPr>
              <a:xfrm>
                <a:off x="1420920" y="63687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813" name="组合 30760"/>
          <p:cNvGrpSpPr/>
          <p:nvPr/>
        </p:nvGrpSpPr>
        <p:grpSpPr>
          <a:xfrm>
            <a:off x="4660920" y="5716440"/>
            <a:ext cx="4776480" cy="1042200"/>
            <a:chOff x="4660920" y="5716440"/>
            <a:chExt cx="4776480" cy="1042200"/>
          </a:xfrm>
        </p:grpSpPr>
        <p:sp>
          <p:nvSpPr>
            <p:cNvPr id="814" name="Text Box 4"/>
            <p:cNvSpPr/>
            <p:nvPr/>
          </p:nvSpPr>
          <p:spPr>
            <a:xfrm>
              <a:off x="4660920" y="571644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15" name="文本框 30762"/>
            <p:cNvSpPr/>
            <p:nvPr/>
          </p:nvSpPr>
          <p:spPr>
            <a:xfrm>
              <a:off x="4682880" y="6159240"/>
              <a:ext cx="475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0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(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－   ）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0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（分贝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816" name="组合 30763"/>
            <p:cNvGrpSpPr/>
            <p:nvPr/>
          </p:nvGrpSpPr>
          <p:grpSpPr>
            <a:xfrm>
              <a:off x="5852880" y="5943240"/>
              <a:ext cx="522360" cy="815400"/>
              <a:chOff x="5852880" y="5943240"/>
              <a:chExt cx="522360" cy="815400"/>
            </a:xfrm>
          </p:grpSpPr>
          <p:sp>
            <p:nvSpPr>
              <p:cNvPr id="817" name="文本框 30764"/>
              <p:cNvSpPr/>
              <p:nvPr/>
            </p:nvSpPr>
            <p:spPr>
              <a:xfrm>
                <a:off x="5870520" y="62989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18" name="文本框 30765"/>
              <p:cNvSpPr/>
              <p:nvPr/>
            </p:nvSpPr>
            <p:spPr>
              <a:xfrm>
                <a:off x="5875200" y="5943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19" name="直接连接符 30766"/>
              <p:cNvSpPr/>
              <p:nvPr/>
            </p:nvSpPr>
            <p:spPr>
              <a:xfrm>
                <a:off x="5852880" y="63622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820" name="组合 30767"/>
            <p:cNvGrpSpPr/>
            <p:nvPr/>
          </p:nvGrpSpPr>
          <p:grpSpPr>
            <a:xfrm>
              <a:off x="7291080" y="5940000"/>
              <a:ext cx="522360" cy="815400"/>
              <a:chOff x="7291080" y="5940000"/>
              <a:chExt cx="522360" cy="815400"/>
            </a:xfrm>
          </p:grpSpPr>
          <p:sp>
            <p:nvSpPr>
              <p:cNvPr id="821" name="文本框 30768"/>
              <p:cNvSpPr/>
              <p:nvPr/>
            </p:nvSpPr>
            <p:spPr>
              <a:xfrm>
                <a:off x="7308720" y="6295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22" name="文本框 30769"/>
              <p:cNvSpPr/>
              <p:nvPr/>
            </p:nvSpPr>
            <p:spPr>
              <a:xfrm>
                <a:off x="7313400" y="5940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23" name="直接连接符 30770"/>
              <p:cNvSpPr/>
              <p:nvPr/>
            </p:nvSpPr>
            <p:spPr>
              <a:xfrm>
                <a:off x="7291080" y="6359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5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828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829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831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832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393840" y="1413000"/>
            <a:ext cx="501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阅读与理解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02" name="组合 19476"/>
          <p:cNvGrpSpPr/>
          <p:nvPr/>
        </p:nvGrpSpPr>
        <p:grpSpPr>
          <a:xfrm>
            <a:off x="442800" y="4076640"/>
            <a:ext cx="7893000" cy="2837160"/>
            <a:chOff x="442800" y="4076640"/>
            <a:chExt cx="7893000" cy="2837160"/>
          </a:xfrm>
        </p:grpSpPr>
        <p:sp>
          <p:nvSpPr>
            <p:cNvPr id="503" name="TextBox 36"/>
            <p:cNvSpPr/>
            <p:nvPr/>
          </p:nvSpPr>
          <p:spPr>
            <a:xfrm>
              <a:off x="1042920" y="4076640"/>
              <a:ext cx="72928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从题目中你知道了什么？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整个大棚的面积是     。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萝卜地的面积占整个大棚面积的     。    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红萝卜地的面积占萝卜地面积的     。     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要求的是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的面积。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04" name="组合 19475"/>
            <p:cNvGrpSpPr/>
            <p:nvPr/>
          </p:nvGrpSpPr>
          <p:grpSpPr>
            <a:xfrm>
              <a:off x="442800" y="4173480"/>
              <a:ext cx="5457960" cy="1736640"/>
              <a:chOff x="442800" y="4173480"/>
              <a:chExt cx="5457960" cy="1736640"/>
            </a:xfrm>
          </p:grpSpPr>
          <p:grpSp>
            <p:nvGrpSpPr>
              <p:cNvPr id="505" name="组合 19461"/>
              <p:cNvGrpSpPr/>
              <p:nvPr/>
            </p:nvGrpSpPr>
            <p:grpSpPr>
              <a:xfrm>
                <a:off x="3687840" y="5002200"/>
                <a:ext cx="2212920" cy="907920"/>
                <a:chOff x="3687840" y="5002200"/>
                <a:chExt cx="2212920" cy="907920"/>
              </a:xfrm>
            </p:grpSpPr>
            <p:sp>
              <p:nvSpPr>
                <p:cNvPr id="506" name="Line 10"/>
                <p:cNvSpPr/>
                <p:nvPr/>
              </p:nvSpPr>
              <p:spPr>
                <a:xfrm>
                  <a:off x="3687840" y="5002200"/>
                  <a:ext cx="66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07" name="Line 11"/>
                <p:cNvSpPr/>
                <p:nvPr/>
              </p:nvSpPr>
              <p:spPr>
                <a:xfrm>
                  <a:off x="5237280" y="5445000"/>
                  <a:ext cx="647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08" name="Line 12"/>
                <p:cNvSpPr/>
                <p:nvPr/>
              </p:nvSpPr>
              <p:spPr>
                <a:xfrm>
                  <a:off x="5253120" y="5910120"/>
                  <a:ext cx="647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509" name="TextBox 34"/>
              <p:cNvSpPr/>
              <p:nvPr/>
            </p:nvSpPr>
            <p:spPr>
              <a:xfrm>
                <a:off x="442800" y="4173480"/>
                <a:ext cx="98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问题：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510" name="Text Box 7"/>
          <p:cNvSpPr/>
          <p:nvPr/>
        </p:nvSpPr>
        <p:spPr>
          <a:xfrm>
            <a:off x="485640" y="87480"/>
            <a:ext cx="38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1" name="组合 19469"/>
          <p:cNvGrpSpPr/>
          <p:nvPr/>
        </p:nvGrpSpPr>
        <p:grpSpPr>
          <a:xfrm>
            <a:off x="1763640" y="1844640"/>
            <a:ext cx="4679640" cy="2169000"/>
            <a:chOff x="1763640" y="1844640"/>
            <a:chExt cx="4679640" cy="2169000"/>
          </a:xfrm>
        </p:grpSpPr>
        <p:pic>
          <p:nvPicPr>
            <p:cNvPr id="512" name="图片 19470" descr="14"/>
            <p:cNvPicPr/>
            <p:nvPr/>
          </p:nvPicPr>
          <p:blipFill>
            <a:blip r:embed="rId1"/>
            <a:stretch/>
          </p:blipFill>
          <p:spPr>
            <a:xfrm>
              <a:off x="1763640" y="1844640"/>
              <a:ext cx="467964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矩形 19471"/>
            <p:cNvSpPr/>
            <p:nvPr/>
          </p:nvSpPr>
          <p:spPr>
            <a:xfrm>
              <a:off x="2219760" y="3614760"/>
              <a:ext cx="30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红萝卜地有多少平方米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93840" y="1413000"/>
            <a:ext cx="501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）阅读与理解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6" name="TextBox 36"/>
          <p:cNvSpPr/>
          <p:nvPr/>
        </p:nvSpPr>
        <p:spPr>
          <a:xfrm>
            <a:off x="826920" y="42656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怎样理解“其中的一半种各种萝卜”？（把这块地平均分成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份，其中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份种各种萝卜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485640" y="87480"/>
            <a:ext cx="38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8" name="组合 20485"/>
          <p:cNvGrpSpPr/>
          <p:nvPr/>
        </p:nvGrpSpPr>
        <p:grpSpPr>
          <a:xfrm>
            <a:off x="1744560" y="1844640"/>
            <a:ext cx="4627800" cy="2199240"/>
            <a:chOff x="1744560" y="1844640"/>
            <a:chExt cx="4627800" cy="2199240"/>
          </a:xfrm>
        </p:grpSpPr>
        <p:pic>
          <p:nvPicPr>
            <p:cNvPr id="519" name="图片 20486" descr="14"/>
            <p:cNvPicPr/>
            <p:nvPr/>
          </p:nvPicPr>
          <p:blipFill>
            <a:blip r:embed="rId1"/>
            <a:stretch/>
          </p:blipFill>
          <p:spPr>
            <a:xfrm>
              <a:off x="1744560" y="1844640"/>
              <a:ext cx="46278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矩形 20487"/>
            <p:cNvSpPr/>
            <p:nvPr/>
          </p:nvSpPr>
          <p:spPr>
            <a:xfrm>
              <a:off x="2764800" y="36450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红萝卜地有多少平方米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21" name="组合 20488"/>
          <p:cNvGrpSpPr/>
          <p:nvPr/>
        </p:nvGrpSpPr>
        <p:grpSpPr>
          <a:xfrm>
            <a:off x="804960" y="5256360"/>
            <a:ext cx="7705800" cy="1290960"/>
            <a:chOff x="804960" y="5256360"/>
            <a:chExt cx="7705800" cy="1290960"/>
          </a:xfrm>
        </p:grpSpPr>
        <p:sp>
          <p:nvSpPr>
            <p:cNvPr id="522" name="TextBox 36"/>
            <p:cNvSpPr/>
            <p:nvPr/>
          </p:nvSpPr>
          <p:spPr>
            <a:xfrm>
              <a:off x="804960" y="5356080"/>
              <a:ext cx="770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怎样理解“红萝卜地的面积占整块萝卜地的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”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？（把种各种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萝卜的面积平均分成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红萝卜占其中的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。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23" name="组合 20490"/>
            <p:cNvGrpSpPr/>
            <p:nvPr/>
          </p:nvGrpSpPr>
          <p:grpSpPr>
            <a:xfrm>
              <a:off x="6094800" y="5256360"/>
              <a:ext cx="521640" cy="815040"/>
              <a:chOff x="6094800" y="5256360"/>
              <a:chExt cx="521640" cy="815040"/>
            </a:xfrm>
          </p:grpSpPr>
          <p:sp>
            <p:nvSpPr>
              <p:cNvPr id="524" name="文本框 20491"/>
              <p:cNvSpPr/>
              <p:nvPr/>
            </p:nvSpPr>
            <p:spPr>
              <a:xfrm>
                <a:off x="6112080" y="56116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5" name="文本框 20492"/>
              <p:cNvSpPr/>
              <p:nvPr/>
            </p:nvSpPr>
            <p:spPr>
              <a:xfrm>
                <a:off x="6116760" y="52563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6" name="直接连接符 20493"/>
              <p:cNvSpPr/>
              <p:nvPr/>
            </p:nvSpPr>
            <p:spPr>
              <a:xfrm>
                <a:off x="6094800" y="567504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527" name="矩形 20494"/>
          <p:cNvSpPr/>
          <p:nvPr/>
        </p:nvSpPr>
        <p:spPr>
          <a:xfrm>
            <a:off x="7038720" y="3500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矩形 20495"/>
          <p:cNvSpPr/>
          <p:nvPr/>
        </p:nvSpPr>
        <p:spPr>
          <a:xfrm>
            <a:off x="7254720" y="3716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357120" y="148608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解答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755640" y="2205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能用示意图表示出题目的意思吗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744480" y="291312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请你解答这道题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3" name="Object 7" descr=""/>
          <p:cNvPicPr/>
          <p:nvPr/>
        </p:nvPicPr>
        <p:blipFill>
          <a:blip r:embed="rId1"/>
          <a:stretch/>
        </p:blipFill>
        <p:spPr>
          <a:xfrm>
            <a:off x="2198520" y="4511520"/>
            <a:ext cx="1582920" cy="10782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8"/>
          <p:cNvSpPr/>
          <p:nvPr/>
        </p:nvSpPr>
        <p:spPr>
          <a:xfrm>
            <a:off x="4084560" y="3683160"/>
            <a:ext cx="5059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研讨问题：请你结合图说说你是怎样想的。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先求出萝卜地的面积，再求出红萝卜地的面积。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4143240" y="4941720"/>
            <a:ext cx="5253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研讨问题：请你结合图说说你是怎样想的。（先求出红萝卜地占大棚面积的几分之几，再求出红萝卜地的面积。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Text Box 16"/>
          <p:cNvSpPr/>
          <p:nvPr/>
        </p:nvSpPr>
        <p:spPr>
          <a:xfrm>
            <a:off x="108000" y="6200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两种方法虽然不同，可以用一个综合算式表示：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80 ×     ×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7" name="图片 21513" descr="15"/>
          <p:cNvPicPr/>
          <p:nvPr/>
        </p:nvPicPr>
        <p:blipFill>
          <a:blip r:embed="rId2"/>
          <a:stretch/>
        </p:blipFill>
        <p:spPr>
          <a:xfrm>
            <a:off x="5292720" y="1700280"/>
            <a:ext cx="2781360" cy="1977840"/>
          </a:xfrm>
          <a:prstGeom prst="rect">
            <a:avLst/>
          </a:prstGeom>
          <a:ln w="0">
            <a:noFill/>
          </a:ln>
        </p:spPr>
      </p:pic>
      <p:grpSp>
        <p:nvGrpSpPr>
          <p:cNvPr id="538" name="组合 21514"/>
          <p:cNvGrpSpPr/>
          <p:nvPr/>
        </p:nvGrpSpPr>
        <p:grpSpPr>
          <a:xfrm>
            <a:off x="6334200" y="5967360"/>
            <a:ext cx="522360" cy="815400"/>
            <a:chOff x="6334200" y="5967360"/>
            <a:chExt cx="522360" cy="815400"/>
          </a:xfrm>
        </p:grpSpPr>
        <p:sp>
          <p:nvSpPr>
            <p:cNvPr id="539" name="文本框 21515"/>
            <p:cNvSpPr/>
            <p:nvPr/>
          </p:nvSpPr>
          <p:spPr>
            <a:xfrm>
              <a:off x="6351840" y="6323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0" name="文本框 21516"/>
            <p:cNvSpPr/>
            <p:nvPr/>
          </p:nvSpPr>
          <p:spPr>
            <a:xfrm>
              <a:off x="6356520" y="596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1" name="直接连接符 21517"/>
            <p:cNvSpPr/>
            <p:nvPr/>
          </p:nvSpPr>
          <p:spPr>
            <a:xfrm>
              <a:off x="6334200" y="6386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42" name="组合 21518"/>
          <p:cNvGrpSpPr/>
          <p:nvPr/>
        </p:nvGrpSpPr>
        <p:grpSpPr>
          <a:xfrm>
            <a:off x="112680" y="3500280"/>
            <a:ext cx="4388040" cy="1442160"/>
            <a:chOff x="112680" y="3500280"/>
            <a:chExt cx="4388040" cy="1442160"/>
          </a:xfrm>
        </p:grpSpPr>
        <p:sp>
          <p:nvSpPr>
            <p:cNvPr id="543" name="Text Box 11"/>
            <p:cNvSpPr/>
            <p:nvPr/>
          </p:nvSpPr>
          <p:spPr>
            <a:xfrm>
              <a:off x="112680" y="371124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44" name="组合 21520"/>
            <p:cNvGrpSpPr/>
            <p:nvPr/>
          </p:nvGrpSpPr>
          <p:grpSpPr>
            <a:xfrm>
              <a:off x="971640" y="3500280"/>
              <a:ext cx="3529080" cy="1442160"/>
              <a:chOff x="971640" y="3500280"/>
              <a:chExt cx="3529080" cy="1442160"/>
            </a:xfrm>
          </p:grpSpPr>
          <p:grpSp>
            <p:nvGrpSpPr>
              <p:cNvPr id="545" name="组合 21521"/>
              <p:cNvGrpSpPr/>
              <p:nvPr/>
            </p:nvGrpSpPr>
            <p:grpSpPr>
              <a:xfrm>
                <a:off x="971640" y="3500280"/>
                <a:ext cx="3529080" cy="815400"/>
                <a:chOff x="971640" y="3500280"/>
                <a:chExt cx="3529080" cy="815400"/>
              </a:xfrm>
            </p:grpSpPr>
            <p:grpSp>
              <p:nvGrpSpPr>
                <p:cNvPr id="546" name="组合 21522"/>
                <p:cNvGrpSpPr/>
                <p:nvPr/>
              </p:nvGrpSpPr>
              <p:grpSpPr>
                <a:xfrm>
                  <a:off x="1785960" y="3500280"/>
                  <a:ext cx="522360" cy="815400"/>
                  <a:chOff x="1785960" y="3500280"/>
                  <a:chExt cx="522360" cy="815400"/>
                </a:xfrm>
              </p:grpSpPr>
              <p:sp>
                <p:nvSpPr>
                  <p:cNvPr id="547" name="文本框 21523"/>
                  <p:cNvSpPr/>
                  <p:nvPr/>
                </p:nvSpPr>
                <p:spPr>
                  <a:xfrm>
                    <a:off x="1803600" y="38559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48" name="文本框 21524"/>
                  <p:cNvSpPr/>
                  <p:nvPr/>
                </p:nvSpPr>
                <p:spPr>
                  <a:xfrm>
                    <a:off x="1808280" y="35002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49" name="直接连接符 21525"/>
                  <p:cNvSpPr/>
                  <p:nvPr/>
                </p:nvSpPr>
                <p:spPr>
                  <a:xfrm>
                    <a:off x="1785960" y="39193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550" name="文本框 21526"/>
                <p:cNvSpPr/>
                <p:nvPr/>
              </p:nvSpPr>
              <p:spPr>
                <a:xfrm>
                  <a:off x="971640" y="3719520"/>
                  <a:ext cx="352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80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40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（平方米）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51" name="组合 21527"/>
              <p:cNvGrpSpPr/>
              <p:nvPr/>
            </p:nvGrpSpPr>
            <p:grpSpPr>
              <a:xfrm>
                <a:off x="971640" y="4127400"/>
                <a:ext cx="3529080" cy="815040"/>
                <a:chOff x="971640" y="4127400"/>
                <a:chExt cx="3529080" cy="815040"/>
              </a:xfrm>
            </p:grpSpPr>
            <p:grpSp>
              <p:nvGrpSpPr>
                <p:cNvPr id="552" name="组合 21528"/>
                <p:cNvGrpSpPr/>
                <p:nvPr/>
              </p:nvGrpSpPr>
              <p:grpSpPr>
                <a:xfrm>
                  <a:off x="1785960" y="4127400"/>
                  <a:ext cx="522360" cy="815040"/>
                  <a:chOff x="1785960" y="4127400"/>
                  <a:chExt cx="522360" cy="815040"/>
                </a:xfrm>
              </p:grpSpPr>
              <p:sp>
                <p:nvSpPr>
                  <p:cNvPr id="553" name="文本框 21529"/>
                  <p:cNvSpPr/>
                  <p:nvPr/>
                </p:nvSpPr>
                <p:spPr>
                  <a:xfrm>
                    <a:off x="1803600" y="448272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54" name="文本框 21530"/>
                  <p:cNvSpPr/>
                  <p:nvPr/>
                </p:nvSpPr>
                <p:spPr>
                  <a:xfrm>
                    <a:off x="1808280" y="412740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55" name="直接连接符 21531"/>
                  <p:cNvSpPr/>
                  <p:nvPr/>
                </p:nvSpPr>
                <p:spPr>
                  <a:xfrm>
                    <a:off x="1785960" y="454608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556" name="文本框 21532"/>
                <p:cNvSpPr/>
                <p:nvPr/>
              </p:nvSpPr>
              <p:spPr>
                <a:xfrm>
                  <a:off x="971640" y="4346280"/>
                  <a:ext cx="352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40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60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（平方米）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557" name="组合 21533"/>
          <p:cNvGrpSpPr/>
          <p:nvPr/>
        </p:nvGrpSpPr>
        <p:grpSpPr>
          <a:xfrm>
            <a:off x="88920" y="4857840"/>
            <a:ext cx="4422600" cy="1480320"/>
            <a:chOff x="88920" y="4857840"/>
            <a:chExt cx="4422600" cy="1480320"/>
          </a:xfrm>
        </p:grpSpPr>
        <p:sp>
          <p:nvSpPr>
            <p:cNvPr id="558" name="Text Box 14"/>
            <p:cNvSpPr/>
            <p:nvPr/>
          </p:nvSpPr>
          <p:spPr>
            <a:xfrm>
              <a:off x="88920" y="508500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59" name="组合 21535"/>
            <p:cNvGrpSpPr/>
            <p:nvPr/>
          </p:nvGrpSpPr>
          <p:grpSpPr>
            <a:xfrm>
              <a:off x="1049400" y="4857840"/>
              <a:ext cx="2131560" cy="842400"/>
              <a:chOff x="1049400" y="4857840"/>
              <a:chExt cx="2131560" cy="842400"/>
            </a:xfrm>
          </p:grpSpPr>
          <p:grpSp>
            <p:nvGrpSpPr>
              <p:cNvPr id="560" name="组合 21536"/>
              <p:cNvGrpSpPr/>
              <p:nvPr/>
            </p:nvGrpSpPr>
            <p:grpSpPr>
              <a:xfrm>
                <a:off x="1049400" y="4865760"/>
                <a:ext cx="1263240" cy="834480"/>
                <a:chOff x="1049400" y="4865760"/>
                <a:chExt cx="1263240" cy="834480"/>
              </a:xfrm>
            </p:grpSpPr>
            <p:sp>
              <p:nvSpPr>
                <p:cNvPr id="561" name="Text Box 8"/>
                <p:cNvSpPr/>
                <p:nvPr/>
              </p:nvSpPr>
              <p:spPr>
                <a:xfrm>
                  <a:off x="1393560" y="5097600"/>
                  <a:ext cx="338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宋体"/>
                    </a:rPr>
                    <a:t>×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562" name="组合 21538"/>
                <p:cNvGrpSpPr/>
                <p:nvPr/>
              </p:nvGrpSpPr>
              <p:grpSpPr>
                <a:xfrm>
                  <a:off x="1779480" y="4865760"/>
                  <a:ext cx="533160" cy="815400"/>
                  <a:chOff x="1779480" y="4865760"/>
                  <a:chExt cx="533160" cy="815400"/>
                </a:xfrm>
              </p:grpSpPr>
              <p:sp>
                <p:nvSpPr>
                  <p:cNvPr id="563" name="文本框 21539"/>
                  <p:cNvSpPr/>
                  <p:nvPr/>
                </p:nvSpPr>
                <p:spPr>
                  <a:xfrm>
                    <a:off x="1807920" y="52214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64" name="文本框 21540"/>
                  <p:cNvSpPr/>
                  <p:nvPr/>
                </p:nvSpPr>
                <p:spPr>
                  <a:xfrm>
                    <a:off x="1792080" y="48657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65" name="直接连接符 21541"/>
                  <p:cNvSpPr/>
                  <p:nvPr/>
                </p:nvSpPr>
                <p:spPr>
                  <a:xfrm>
                    <a:off x="1779480" y="52848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566" name="组合 21542"/>
                <p:cNvGrpSpPr/>
                <p:nvPr/>
              </p:nvGrpSpPr>
              <p:grpSpPr>
                <a:xfrm>
                  <a:off x="1049400" y="4884840"/>
                  <a:ext cx="523800" cy="815400"/>
                  <a:chOff x="1049400" y="4884840"/>
                  <a:chExt cx="523800" cy="815400"/>
                </a:xfrm>
              </p:grpSpPr>
              <p:sp>
                <p:nvSpPr>
                  <p:cNvPr id="567" name="文本框 21543"/>
                  <p:cNvSpPr/>
                  <p:nvPr/>
                </p:nvSpPr>
                <p:spPr>
                  <a:xfrm>
                    <a:off x="1068480" y="524052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68" name="文本框 21544"/>
                  <p:cNvSpPr/>
                  <p:nvPr/>
                </p:nvSpPr>
                <p:spPr>
                  <a:xfrm>
                    <a:off x="1071720" y="48848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69" name="直接连接符 21545"/>
                  <p:cNvSpPr/>
                  <p:nvPr/>
                </p:nvSpPr>
                <p:spPr>
                  <a:xfrm>
                    <a:off x="1049400" y="530388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0" name="组合 21546"/>
              <p:cNvGrpSpPr/>
              <p:nvPr/>
            </p:nvGrpSpPr>
            <p:grpSpPr>
              <a:xfrm>
                <a:off x="2087280" y="4857840"/>
                <a:ext cx="1093680" cy="805680"/>
                <a:chOff x="2087280" y="4857840"/>
                <a:chExt cx="1093680" cy="805680"/>
              </a:xfrm>
            </p:grpSpPr>
            <p:sp>
              <p:nvSpPr>
                <p:cNvPr id="571" name="文本框 21547"/>
                <p:cNvSpPr/>
                <p:nvPr/>
              </p:nvSpPr>
              <p:spPr>
                <a:xfrm>
                  <a:off x="2087280" y="506412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572" name="组合 21548"/>
                <p:cNvGrpSpPr/>
                <p:nvPr/>
              </p:nvGrpSpPr>
              <p:grpSpPr>
                <a:xfrm>
                  <a:off x="2501640" y="4857840"/>
                  <a:ext cx="679320" cy="805680"/>
                  <a:chOff x="2501640" y="4857840"/>
                  <a:chExt cx="679320" cy="805680"/>
                </a:xfrm>
              </p:grpSpPr>
              <p:sp>
                <p:nvSpPr>
                  <p:cNvPr id="573" name="文本框 21549"/>
                  <p:cNvSpPr/>
                  <p:nvPr/>
                </p:nvSpPr>
                <p:spPr>
                  <a:xfrm>
                    <a:off x="2507760" y="5203800"/>
                    <a:ext cx="505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8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74" name="文本框 21550"/>
                  <p:cNvSpPr/>
                  <p:nvPr/>
                </p:nvSpPr>
                <p:spPr>
                  <a:xfrm>
                    <a:off x="2501640" y="4857840"/>
                    <a:ext cx="679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75" name="直接连接符 21551"/>
                  <p:cNvSpPr/>
                  <p:nvPr/>
                </p:nvSpPr>
                <p:spPr>
                  <a:xfrm>
                    <a:off x="2520360" y="5280120"/>
                    <a:ext cx="2876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76" name="组合 21552"/>
            <p:cNvGrpSpPr/>
            <p:nvPr/>
          </p:nvGrpSpPr>
          <p:grpSpPr>
            <a:xfrm>
              <a:off x="982800" y="5523120"/>
              <a:ext cx="3528720" cy="815040"/>
              <a:chOff x="982800" y="5523120"/>
              <a:chExt cx="3528720" cy="815040"/>
            </a:xfrm>
          </p:grpSpPr>
          <p:grpSp>
            <p:nvGrpSpPr>
              <p:cNvPr id="577" name="组合 21553"/>
              <p:cNvGrpSpPr/>
              <p:nvPr/>
            </p:nvGrpSpPr>
            <p:grpSpPr>
              <a:xfrm>
                <a:off x="1796760" y="5523120"/>
                <a:ext cx="521640" cy="815040"/>
                <a:chOff x="1796760" y="5523120"/>
                <a:chExt cx="521640" cy="815040"/>
              </a:xfrm>
            </p:grpSpPr>
            <p:sp>
              <p:nvSpPr>
                <p:cNvPr id="578" name="文本框 21554"/>
                <p:cNvSpPr/>
                <p:nvPr/>
              </p:nvSpPr>
              <p:spPr>
                <a:xfrm>
                  <a:off x="1814040" y="587844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79" name="文本框 21555"/>
                <p:cNvSpPr/>
                <p:nvPr/>
              </p:nvSpPr>
              <p:spPr>
                <a:xfrm>
                  <a:off x="1818720" y="552312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80" name="直接连接符 21556"/>
                <p:cNvSpPr/>
                <p:nvPr/>
              </p:nvSpPr>
              <p:spPr>
                <a:xfrm>
                  <a:off x="1796760" y="59418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581" name="文本框 21557"/>
              <p:cNvSpPr/>
              <p:nvPr/>
            </p:nvSpPr>
            <p:spPr>
              <a:xfrm>
                <a:off x="982800" y="5742000"/>
                <a:ext cx="352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80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0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（平方米）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582" name="组合 21558"/>
          <p:cNvGrpSpPr/>
          <p:nvPr/>
        </p:nvGrpSpPr>
        <p:grpSpPr>
          <a:xfrm>
            <a:off x="6929280" y="5972040"/>
            <a:ext cx="522360" cy="815400"/>
            <a:chOff x="6929280" y="5972040"/>
            <a:chExt cx="522360" cy="815400"/>
          </a:xfrm>
        </p:grpSpPr>
        <p:sp>
          <p:nvSpPr>
            <p:cNvPr id="583" name="文本框 21559"/>
            <p:cNvSpPr/>
            <p:nvPr/>
          </p:nvSpPr>
          <p:spPr>
            <a:xfrm>
              <a:off x="6946920" y="6327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4" name="文本框 21560"/>
            <p:cNvSpPr/>
            <p:nvPr/>
          </p:nvSpPr>
          <p:spPr>
            <a:xfrm>
              <a:off x="6951600" y="59720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5" name="直接连接符 21561"/>
            <p:cNvSpPr/>
            <p:nvPr/>
          </p:nvSpPr>
          <p:spPr>
            <a:xfrm>
              <a:off x="6929280" y="63910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22530" descr=""/>
          <p:cNvPicPr/>
          <p:nvPr/>
        </p:nvPicPr>
        <p:blipFill>
          <a:blip r:embed="rId2"/>
          <a:stretch/>
        </p:blipFill>
        <p:spPr>
          <a:xfrm>
            <a:off x="333360" y="281160"/>
            <a:ext cx="8420040" cy="62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357120" y="148608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三）回顾与反思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12720" y="2133720"/>
            <a:ext cx="47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刚才用两种方法求出了红萝卜的面积，那么对不对呢？都可以怎样检查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630360" y="3716280"/>
            <a:ext cx="797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研讨问题：请你结合图说说你检验的思路。（红萝卜的面积乘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表示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萝卜地的面积，再乘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就是大棚的面积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612720" y="5415120"/>
            <a:ext cx="853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研讨问题：请你结合图说说你检验的思路。（把大棚面积平均分成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份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红萝卜地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份，用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份的面积乘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就是大棚的面积。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3" name="组合 23558"/>
          <p:cNvGrpSpPr/>
          <p:nvPr/>
        </p:nvGrpSpPr>
        <p:grpSpPr>
          <a:xfrm>
            <a:off x="617400" y="3116160"/>
            <a:ext cx="4392360" cy="486720"/>
            <a:chOff x="617400" y="3116160"/>
            <a:chExt cx="4392360" cy="486720"/>
          </a:xfrm>
        </p:grpSpPr>
        <p:sp>
          <p:nvSpPr>
            <p:cNvPr id="594" name="Text Box 8"/>
            <p:cNvSpPr/>
            <p:nvPr/>
          </p:nvSpPr>
          <p:spPr>
            <a:xfrm>
              <a:off x="617400" y="31161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5" name="Text Box 9"/>
            <p:cNvSpPr/>
            <p:nvPr/>
          </p:nvSpPr>
          <p:spPr>
            <a:xfrm>
              <a:off x="1625400" y="3143160"/>
              <a:ext cx="33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60×4×2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＝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80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      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96" name="图片 23561" descr="15"/>
          <p:cNvPicPr/>
          <p:nvPr/>
        </p:nvPicPr>
        <p:blipFill>
          <a:blip r:embed="rId1"/>
          <a:stretch/>
        </p:blipFill>
        <p:spPr>
          <a:xfrm>
            <a:off x="5292720" y="1700280"/>
            <a:ext cx="2781360" cy="197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7" name="对象 23562"/>
          <p:cNvGraphicFramePr/>
          <p:nvPr/>
        </p:nvGraphicFramePr>
        <p:xfrm>
          <a:off x="3684600" y="3038400"/>
          <a:ext cx="522360" cy="6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8" name="对象 235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84600" y="3038400"/>
                    <a:ext cx="5223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9" name="组合 23563"/>
          <p:cNvGrpSpPr/>
          <p:nvPr/>
        </p:nvGrpSpPr>
        <p:grpSpPr>
          <a:xfrm>
            <a:off x="571680" y="4813200"/>
            <a:ext cx="4768560" cy="684360"/>
            <a:chOff x="571680" y="4813200"/>
            <a:chExt cx="4768560" cy="684360"/>
          </a:xfrm>
        </p:grpSpPr>
        <p:sp>
          <p:nvSpPr>
            <p:cNvPr id="600" name="Text Box 11"/>
            <p:cNvSpPr/>
            <p:nvPr/>
          </p:nvSpPr>
          <p:spPr>
            <a:xfrm>
              <a:off x="571680" y="489276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1" name="Text Box 12"/>
            <p:cNvSpPr/>
            <p:nvPr/>
          </p:nvSpPr>
          <p:spPr>
            <a:xfrm>
              <a:off x="1569960" y="4903920"/>
              <a:ext cx="377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60×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×2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＝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80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     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aphicFrame>
          <p:nvGraphicFramePr>
            <p:cNvPr id="602" name="对象 23566"/>
            <p:cNvGraphicFramePr/>
            <p:nvPr/>
          </p:nvGraphicFramePr>
          <p:xfrm>
            <a:off x="4118040" y="4813200"/>
            <a:ext cx="522360" cy="684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03" name="对象 2356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18040" y="4813200"/>
                      <a:ext cx="522360" cy="6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</a:rPr>
              <a:t>二、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巩固练习，提升认识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4520" y="589932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3873600" y="59007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7" name="图片 24580" descr="16"/>
          <p:cNvPicPr/>
          <p:nvPr/>
        </p:nvPicPr>
        <p:blipFill>
          <a:blip r:embed="rId1"/>
          <a:stretch/>
        </p:blipFill>
        <p:spPr>
          <a:xfrm>
            <a:off x="1870200" y="1282680"/>
            <a:ext cx="5510160" cy="180036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4581"/>
          <p:cNvGrpSpPr/>
          <p:nvPr/>
        </p:nvGrpSpPr>
        <p:grpSpPr>
          <a:xfrm>
            <a:off x="828720" y="2941560"/>
            <a:ext cx="7138800" cy="2757960"/>
            <a:chOff x="828720" y="2941560"/>
            <a:chExt cx="7138800" cy="2757960"/>
          </a:xfrm>
        </p:grpSpPr>
        <p:sp>
          <p:nvSpPr>
            <p:cNvPr id="609" name="左大括号 24582"/>
            <p:cNvSpPr/>
            <p:nvPr/>
          </p:nvSpPr>
          <p:spPr>
            <a:xfrm rot="5400000">
              <a:off x="4537800" y="234000"/>
              <a:ext cx="282600" cy="6408720"/>
            </a:xfrm>
            <a:custGeom>
              <a:avLst/>
              <a:gdLst>
                <a:gd name="textAreaLeft" fmla="*/ 180720 w 282600"/>
                <a:gd name="textAreaRight" fmla="*/ 282960 w 282600"/>
                <a:gd name="textAreaTop" fmla="*/ 167040 h 6408720"/>
                <a:gd name="textAreaBottom" fmla="*/ 6241680 h 640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0" name="文本框 24583"/>
            <p:cNvSpPr/>
            <p:nvPr/>
          </p:nvSpPr>
          <p:spPr>
            <a:xfrm>
              <a:off x="4245120" y="294156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11" name="组合 24584"/>
            <p:cNvGrpSpPr/>
            <p:nvPr/>
          </p:nvGrpSpPr>
          <p:grpSpPr>
            <a:xfrm>
              <a:off x="828720" y="3344760"/>
              <a:ext cx="7138800" cy="2354760"/>
              <a:chOff x="828720" y="3344760"/>
              <a:chExt cx="7138800" cy="2354760"/>
            </a:xfrm>
          </p:grpSpPr>
          <p:grpSp>
            <p:nvGrpSpPr>
              <p:cNvPr id="612" name="组合 24585"/>
              <p:cNvGrpSpPr/>
              <p:nvPr/>
            </p:nvGrpSpPr>
            <p:grpSpPr>
              <a:xfrm>
                <a:off x="1476360" y="4508640"/>
                <a:ext cx="6478560" cy="155520"/>
                <a:chOff x="1476360" y="4508640"/>
                <a:chExt cx="6478560" cy="155520"/>
              </a:xfrm>
            </p:grpSpPr>
            <p:grpSp>
              <p:nvGrpSpPr>
                <p:cNvPr id="613" name="组合 24586"/>
                <p:cNvGrpSpPr/>
                <p:nvPr/>
              </p:nvGrpSpPr>
              <p:grpSpPr>
                <a:xfrm>
                  <a:off x="1476360" y="4508640"/>
                  <a:ext cx="6478560" cy="155520"/>
                  <a:chOff x="1476360" y="4508640"/>
                  <a:chExt cx="6478560" cy="155520"/>
                </a:xfrm>
              </p:grpSpPr>
              <p:grpSp>
                <p:nvGrpSpPr>
                  <p:cNvPr id="614" name="组合 24587"/>
                  <p:cNvGrpSpPr/>
                  <p:nvPr/>
                </p:nvGrpSpPr>
                <p:grpSpPr>
                  <a:xfrm>
                    <a:off x="1476360" y="4508640"/>
                    <a:ext cx="6478560" cy="155520"/>
                    <a:chOff x="1476360" y="4508640"/>
                    <a:chExt cx="6478560" cy="155520"/>
                  </a:xfrm>
                </p:grpSpPr>
                <p:sp>
                  <p:nvSpPr>
                    <p:cNvPr id="615" name="直接连接符 24588"/>
                    <p:cNvSpPr/>
                    <p:nvPr/>
                  </p:nvSpPr>
                  <p:spPr>
                    <a:xfrm>
                      <a:off x="1476360" y="4653000"/>
                      <a:ext cx="64785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616" name="直接连接符 24589"/>
                    <p:cNvSpPr/>
                    <p:nvPr/>
                  </p:nvSpPr>
                  <p:spPr>
                    <a:xfrm>
                      <a:off x="1482840" y="4508640"/>
                      <a:ext cx="0" cy="144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617" name="直接连接符 24590"/>
                    <p:cNvSpPr/>
                    <p:nvPr/>
                  </p:nvSpPr>
                  <p:spPr>
                    <a:xfrm flipH="1">
                      <a:off x="7947000" y="4519800"/>
                      <a:ext cx="6480" cy="144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618" name="直接连接符 24591"/>
                  <p:cNvSpPr/>
                  <p:nvPr/>
                </p:nvSpPr>
                <p:spPr>
                  <a:xfrm>
                    <a:off x="3635280" y="4508640"/>
                    <a:ext cx="0" cy="144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19" name="直接连接符 24592"/>
                  <p:cNvSpPr/>
                  <p:nvPr/>
                </p:nvSpPr>
                <p:spPr>
                  <a:xfrm>
                    <a:off x="5796000" y="4508640"/>
                    <a:ext cx="0" cy="144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620" name="直接连接符 24593"/>
                <p:cNvSpPr/>
                <p:nvPr/>
              </p:nvSpPr>
              <p:spPr>
                <a:xfrm>
                  <a:off x="2556000" y="4508640"/>
                  <a:ext cx="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21" name="直接连接符 24594"/>
                <p:cNvSpPr/>
                <p:nvPr/>
              </p:nvSpPr>
              <p:spPr>
                <a:xfrm>
                  <a:off x="2023920" y="4508640"/>
                  <a:ext cx="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22" name="直接连接符 24595"/>
                <p:cNvSpPr/>
                <p:nvPr/>
              </p:nvSpPr>
              <p:spPr>
                <a:xfrm>
                  <a:off x="3103560" y="4508640"/>
                  <a:ext cx="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623" name="组合 24596"/>
              <p:cNvGrpSpPr/>
              <p:nvPr/>
            </p:nvGrpSpPr>
            <p:grpSpPr>
              <a:xfrm>
                <a:off x="828720" y="3852720"/>
                <a:ext cx="4751280" cy="645120"/>
                <a:chOff x="828720" y="3852720"/>
                <a:chExt cx="4751280" cy="645120"/>
              </a:xfrm>
            </p:grpSpPr>
            <p:sp>
              <p:nvSpPr>
                <p:cNvPr id="624" name="文本框 24597"/>
                <p:cNvSpPr/>
                <p:nvPr/>
              </p:nvSpPr>
              <p:spPr>
                <a:xfrm>
                  <a:off x="828720" y="4025520"/>
                  <a:ext cx="4751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5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想成为科学家的人数是想当老师人数的</a:t>
                  </a:r>
                  <a:endParaRPr b="0" i="1" lang="en-US" sz="15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625" name="组合 24598"/>
                <p:cNvGrpSpPr/>
                <p:nvPr/>
              </p:nvGrpSpPr>
              <p:grpSpPr>
                <a:xfrm>
                  <a:off x="4173480" y="3852720"/>
                  <a:ext cx="504720" cy="645120"/>
                  <a:chOff x="4173480" y="3852720"/>
                  <a:chExt cx="504720" cy="645120"/>
                </a:xfrm>
              </p:grpSpPr>
              <p:sp>
                <p:nvSpPr>
                  <p:cNvPr id="626" name="文本框 24599"/>
                  <p:cNvSpPr/>
                  <p:nvPr/>
                </p:nvSpPr>
                <p:spPr>
                  <a:xfrm>
                    <a:off x="4173480" y="4130280"/>
                    <a:ext cx="504720" cy="36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93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15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27" name="文本框 24600"/>
                  <p:cNvSpPr/>
                  <p:nvPr/>
                </p:nvSpPr>
                <p:spPr>
                  <a:xfrm>
                    <a:off x="4178160" y="3852720"/>
                    <a:ext cx="360360" cy="36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93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15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28" name="直接连接符 24601"/>
                  <p:cNvSpPr/>
                  <p:nvPr/>
                </p:nvSpPr>
                <p:spPr>
                  <a:xfrm>
                    <a:off x="4211640" y="419400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sp>
            <p:nvSpPr>
              <p:cNvPr id="629" name="左大括号 24602"/>
              <p:cNvSpPr/>
              <p:nvPr/>
            </p:nvSpPr>
            <p:spPr>
              <a:xfrm rot="5400000">
                <a:off x="2196000" y="3583440"/>
                <a:ext cx="204840" cy="1619280"/>
              </a:xfrm>
              <a:custGeom>
                <a:avLst/>
                <a:gdLst>
                  <a:gd name="textAreaLeft" fmla="*/ 131040 w 204840"/>
                  <a:gd name="textAreaRight" fmla="*/ 205200 w 204840"/>
                  <a:gd name="textAreaTop" fmla="*/ 42120 h 1619280"/>
                  <a:gd name="textAreaBottom" fmla="*/ 1577160 h 16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0" name="左大括号 24603"/>
              <p:cNvSpPr/>
              <p:nvPr/>
            </p:nvSpPr>
            <p:spPr>
              <a:xfrm rot="5400000">
                <a:off x="2433240" y="2832120"/>
                <a:ext cx="244440" cy="2158920"/>
              </a:xfrm>
              <a:custGeom>
                <a:avLst/>
                <a:gdLst>
                  <a:gd name="textAreaLeft" fmla="*/ 156240 w 244440"/>
                  <a:gd name="textAreaRight" fmla="*/ 244440 w 244440"/>
                  <a:gd name="textAreaTop" fmla="*/ 56160 h 2158920"/>
                  <a:gd name="textAreaBottom" fmla="*/ 2102760 h 215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631" name="组合 24604"/>
              <p:cNvGrpSpPr/>
              <p:nvPr/>
            </p:nvGrpSpPr>
            <p:grpSpPr>
              <a:xfrm>
                <a:off x="1901880" y="3344760"/>
                <a:ext cx="1422360" cy="645120"/>
                <a:chOff x="1901880" y="3344760"/>
                <a:chExt cx="1422360" cy="645120"/>
              </a:xfrm>
            </p:grpSpPr>
            <p:grpSp>
              <p:nvGrpSpPr>
                <p:cNvPr id="632" name="组合 24605"/>
                <p:cNvGrpSpPr/>
                <p:nvPr/>
              </p:nvGrpSpPr>
              <p:grpSpPr>
                <a:xfrm>
                  <a:off x="1901880" y="3344760"/>
                  <a:ext cx="504720" cy="645120"/>
                  <a:chOff x="1901880" y="3344760"/>
                  <a:chExt cx="504720" cy="645120"/>
                </a:xfrm>
              </p:grpSpPr>
              <p:sp>
                <p:nvSpPr>
                  <p:cNvPr id="633" name="文本框 24606"/>
                  <p:cNvSpPr/>
                  <p:nvPr/>
                </p:nvSpPr>
                <p:spPr>
                  <a:xfrm>
                    <a:off x="1901880" y="3622320"/>
                    <a:ext cx="504720" cy="36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93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15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34" name="文本框 24607"/>
                  <p:cNvSpPr/>
                  <p:nvPr/>
                </p:nvSpPr>
                <p:spPr>
                  <a:xfrm>
                    <a:off x="1906560" y="3344760"/>
                    <a:ext cx="360360" cy="36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93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15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35" name="直接连接符 24608"/>
                  <p:cNvSpPr/>
                  <p:nvPr/>
                </p:nvSpPr>
                <p:spPr>
                  <a:xfrm>
                    <a:off x="1940040" y="368604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636" name="文本框 24609"/>
                <p:cNvSpPr/>
                <p:nvPr/>
              </p:nvSpPr>
              <p:spPr>
                <a:xfrm>
                  <a:off x="2100240" y="3500280"/>
                  <a:ext cx="122400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5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想成为老师</a:t>
                  </a:r>
                  <a:endParaRPr b="0" i="1" lang="en-US" sz="15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637" name="左大括号 24610"/>
              <p:cNvSpPr/>
              <p:nvPr/>
            </p:nvSpPr>
            <p:spPr>
              <a:xfrm rot="16200000">
                <a:off x="2212200" y="3984840"/>
                <a:ext cx="144360" cy="161928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42120 h 1619280"/>
                  <a:gd name="textAreaBottom" fmla="*/ 1577160 h 16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638" name="组合 24611"/>
              <p:cNvGrpSpPr/>
              <p:nvPr/>
            </p:nvGrpSpPr>
            <p:grpSpPr>
              <a:xfrm>
                <a:off x="1320840" y="4830840"/>
                <a:ext cx="6646680" cy="868680"/>
                <a:chOff x="1320840" y="4830840"/>
                <a:chExt cx="6646680" cy="868680"/>
              </a:xfrm>
            </p:grpSpPr>
            <p:sp>
              <p:nvSpPr>
                <p:cNvPr id="639" name="左大括号 24612"/>
                <p:cNvSpPr/>
                <p:nvPr/>
              </p:nvSpPr>
              <p:spPr>
                <a:xfrm rot="16200000">
                  <a:off x="4608360" y="2014560"/>
                  <a:ext cx="238320" cy="6480000"/>
                </a:xfrm>
                <a:custGeom>
                  <a:avLst/>
                  <a:gdLst>
                    <a:gd name="textAreaLeft" fmla="*/ 152280 w 238320"/>
                    <a:gd name="textAreaRight" fmla="*/ 238680 w 238320"/>
                    <a:gd name="textAreaTop" fmla="*/ 168840 h 6480000"/>
                    <a:gd name="textAreaBottom" fmla="*/ 6311160 h 6480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40" name="文本框 24613"/>
                <p:cNvSpPr/>
                <p:nvPr/>
              </p:nvSpPr>
              <p:spPr>
                <a:xfrm>
                  <a:off x="1320840" y="4830840"/>
                  <a:ext cx="352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5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多少名同学想成为科学家？</a:t>
                  </a:r>
                  <a:endParaRPr b="0" i="1" lang="en-US" sz="15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41" name="文本框 24614"/>
                <p:cNvSpPr/>
                <p:nvPr/>
              </p:nvSpPr>
              <p:spPr>
                <a:xfrm>
                  <a:off x="4389480" y="5300640"/>
                  <a:ext cx="936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6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人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642" name="组合 24615"/>
          <p:cNvGrpSpPr/>
          <p:nvPr/>
        </p:nvGrpSpPr>
        <p:grpSpPr>
          <a:xfrm>
            <a:off x="914400" y="5694480"/>
            <a:ext cx="3095640" cy="819720"/>
            <a:chOff x="914400" y="5694480"/>
            <a:chExt cx="3095640" cy="819720"/>
          </a:xfrm>
        </p:grpSpPr>
        <p:sp>
          <p:nvSpPr>
            <p:cNvPr id="643" name="Text Box 16"/>
            <p:cNvSpPr/>
            <p:nvPr/>
          </p:nvSpPr>
          <p:spPr>
            <a:xfrm>
              <a:off x="914400" y="59166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6 ×     ×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＝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9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人）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4" name="文本框 24617"/>
            <p:cNvSpPr/>
            <p:nvPr/>
          </p:nvSpPr>
          <p:spPr>
            <a:xfrm>
              <a:off x="1623960" y="6049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5" name="文本框 24618"/>
            <p:cNvSpPr/>
            <p:nvPr/>
          </p:nvSpPr>
          <p:spPr>
            <a:xfrm>
              <a:off x="1628640" y="5694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6" name="直接连接符 24619"/>
            <p:cNvSpPr/>
            <p:nvPr/>
          </p:nvSpPr>
          <p:spPr>
            <a:xfrm>
              <a:off x="1606680" y="61131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7" name="文本框 24620"/>
            <p:cNvSpPr/>
            <p:nvPr/>
          </p:nvSpPr>
          <p:spPr>
            <a:xfrm>
              <a:off x="2219400" y="60544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8" name="文本框 24621"/>
            <p:cNvSpPr/>
            <p:nvPr/>
          </p:nvSpPr>
          <p:spPr>
            <a:xfrm>
              <a:off x="2224080" y="5699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9" name="直接连接符 24622"/>
            <p:cNvSpPr/>
            <p:nvPr/>
          </p:nvSpPr>
          <p:spPr>
            <a:xfrm>
              <a:off x="2201760" y="61182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50" name="组合 24623"/>
          <p:cNvGrpSpPr/>
          <p:nvPr/>
        </p:nvGrpSpPr>
        <p:grpSpPr>
          <a:xfrm>
            <a:off x="4732200" y="5695920"/>
            <a:ext cx="4385160" cy="820080"/>
            <a:chOff x="4732200" y="5695920"/>
            <a:chExt cx="4385160" cy="820080"/>
          </a:xfrm>
        </p:grpSpPr>
        <p:grpSp>
          <p:nvGrpSpPr>
            <p:cNvPr id="651" name="组合 24624"/>
            <p:cNvGrpSpPr/>
            <p:nvPr/>
          </p:nvGrpSpPr>
          <p:grpSpPr>
            <a:xfrm>
              <a:off x="7612200" y="5695920"/>
              <a:ext cx="521640" cy="815400"/>
              <a:chOff x="7612200" y="5695920"/>
              <a:chExt cx="521640" cy="815400"/>
            </a:xfrm>
          </p:grpSpPr>
          <p:sp>
            <p:nvSpPr>
              <p:cNvPr id="652" name="文本框 24625"/>
              <p:cNvSpPr/>
              <p:nvPr/>
            </p:nvSpPr>
            <p:spPr>
              <a:xfrm>
                <a:off x="7629480" y="60516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3" name="文本框 24626"/>
              <p:cNvSpPr/>
              <p:nvPr/>
            </p:nvSpPr>
            <p:spPr>
              <a:xfrm>
                <a:off x="7634160" y="56959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4" name="直接连接符 24627"/>
              <p:cNvSpPr/>
              <p:nvPr/>
            </p:nvSpPr>
            <p:spPr>
              <a:xfrm>
                <a:off x="7612200" y="61149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55" name="Text Box 16"/>
            <p:cNvSpPr/>
            <p:nvPr/>
          </p:nvSpPr>
          <p:spPr>
            <a:xfrm>
              <a:off x="4732200" y="5918040"/>
              <a:ext cx="39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6 ×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    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×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＝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6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6" name="文本框 24629"/>
            <p:cNvSpPr/>
            <p:nvPr/>
          </p:nvSpPr>
          <p:spPr>
            <a:xfrm>
              <a:off x="5680080" y="6051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7" name="文本框 24630"/>
            <p:cNvSpPr/>
            <p:nvPr/>
          </p:nvSpPr>
          <p:spPr>
            <a:xfrm>
              <a:off x="5684760" y="5695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8" name="直接连接符 24631"/>
            <p:cNvSpPr/>
            <p:nvPr/>
          </p:nvSpPr>
          <p:spPr>
            <a:xfrm>
              <a:off x="5662440" y="61149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9" name="文本框 24632"/>
            <p:cNvSpPr/>
            <p:nvPr/>
          </p:nvSpPr>
          <p:spPr>
            <a:xfrm>
              <a:off x="6275520" y="6056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0" name="文本框 24633"/>
            <p:cNvSpPr/>
            <p:nvPr/>
          </p:nvSpPr>
          <p:spPr>
            <a:xfrm>
              <a:off x="6280200" y="57006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1" name="直接连接符 24634"/>
            <p:cNvSpPr/>
            <p:nvPr/>
          </p:nvSpPr>
          <p:spPr>
            <a:xfrm>
              <a:off x="6257880" y="61196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2" name="矩形 24635"/>
            <p:cNvSpPr/>
            <p:nvPr/>
          </p:nvSpPr>
          <p:spPr>
            <a:xfrm>
              <a:off x="8063640" y="5921280"/>
              <a:ext cx="105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9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（人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"/>
          <p:cNvSpPr/>
          <p:nvPr/>
        </p:nvSpPr>
        <p:spPr>
          <a:xfrm>
            <a:off x="393840" y="1413000"/>
            <a:ext cx="501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）阅读与理解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485640" y="87480"/>
            <a:ext cx="38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9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66" name="组合 25605"/>
          <p:cNvGrpSpPr/>
          <p:nvPr/>
        </p:nvGrpSpPr>
        <p:grpSpPr>
          <a:xfrm>
            <a:off x="733320" y="2165400"/>
            <a:ext cx="7726320" cy="1191240"/>
            <a:chOff x="733320" y="2165400"/>
            <a:chExt cx="7726320" cy="1191240"/>
          </a:xfrm>
        </p:grpSpPr>
        <p:sp>
          <p:nvSpPr>
            <p:cNvPr id="667" name="Text Box 7"/>
            <p:cNvSpPr/>
            <p:nvPr/>
          </p:nvSpPr>
          <p:spPr>
            <a:xfrm>
              <a:off x="733320" y="2165400"/>
              <a:ext cx="7726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人心脏跳动的次数随年龄而变化。青少年心跳每分钟约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75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次，婴儿每分钟心跳的次数比青少年多      。婴儿每分钟心跳多少次？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68" name="组合 25607"/>
            <p:cNvGrpSpPr/>
            <p:nvPr/>
          </p:nvGrpSpPr>
          <p:grpSpPr>
            <a:xfrm>
              <a:off x="4665600" y="2509920"/>
              <a:ext cx="522360" cy="815400"/>
              <a:chOff x="4665600" y="2509920"/>
              <a:chExt cx="522360" cy="815400"/>
            </a:xfrm>
          </p:grpSpPr>
          <p:sp>
            <p:nvSpPr>
              <p:cNvPr id="669" name="文本框 25608"/>
              <p:cNvSpPr/>
              <p:nvPr/>
            </p:nvSpPr>
            <p:spPr>
              <a:xfrm>
                <a:off x="4683240" y="2865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70" name="文本框 25609"/>
              <p:cNvSpPr/>
              <p:nvPr/>
            </p:nvSpPr>
            <p:spPr>
              <a:xfrm>
                <a:off x="4687920" y="2509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71" name="直接连接符 25610"/>
              <p:cNvSpPr/>
              <p:nvPr/>
            </p:nvSpPr>
            <p:spPr>
              <a:xfrm>
                <a:off x="4665600" y="29289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672" name="组合 25630"/>
          <p:cNvGrpSpPr/>
          <p:nvPr/>
        </p:nvGrpSpPr>
        <p:grpSpPr>
          <a:xfrm>
            <a:off x="473040" y="3571920"/>
            <a:ext cx="8562960" cy="2837160"/>
            <a:chOff x="473040" y="3571920"/>
            <a:chExt cx="8562960" cy="2837160"/>
          </a:xfrm>
        </p:grpSpPr>
        <p:sp>
          <p:nvSpPr>
            <p:cNvPr id="673" name="TextBox 34"/>
            <p:cNvSpPr/>
            <p:nvPr/>
          </p:nvSpPr>
          <p:spPr>
            <a:xfrm>
              <a:off x="473040" y="3689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问题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74" name="TextBox 36"/>
            <p:cNvSpPr/>
            <p:nvPr/>
          </p:nvSpPr>
          <p:spPr>
            <a:xfrm>
              <a:off x="1189080" y="3571920"/>
              <a:ext cx="78469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从题目中你知道了什么？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青少年每分钟心跳约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次。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婴儿每分钟心跳的次数比青少年多     ，多的部分是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的       。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要求的是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每分钟心跳的次数。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75" name="组合 25614"/>
            <p:cNvGrpSpPr/>
            <p:nvPr/>
          </p:nvGrpSpPr>
          <p:grpSpPr>
            <a:xfrm>
              <a:off x="5386320" y="4414680"/>
              <a:ext cx="522360" cy="815400"/>
              <a:chOff x="5386320" y="4414680"/>
              <a:chExt cx="522360" cy="815400"/>
            </a:xfrm>
          </p:grpSpPr>
          <p:sp>
            <p:nvSpPr>
              <p:cNvPr id="676" name="文本框 25615"/>
              <p:cNvSpPr/>
              <p:nvPr/>
            </p:nvSpPr>
            <p:spPr>
              <a:xfrm>
                <a:off x="5403960" y="47703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77" name="文本框 25616"/>
              <p:cNvSpPr/>
              <p:nvPr/>
            </p:nvSpPr>
            <p:spPr>
              <a:xfrm>
                <a:off x="5408640" y="4414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78" name="直接连接符 25617"/>
              <p:cNvSpPr/>
              <p:nvPr/>
            </p:nvSpPr>
            <p:spPr>
              <a:xfrm>
                <a:off x="5386320" y="48337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79" name="组合 25626"/>
            <p:cNvGrpSpPr/>
            <p:nvPr/>
          </p:nvGrpSpPr>
          <p:grpSpPr>
            <a:xfrm>
              <a:off x="7948440" y="4411800"/>
              <a:ext cx="522360" cy="815040"/>
              <a:chOff x="7948440" y="4411800"/>
              <a:chExt cx="522360" cy="815040"/>
            </a:xfrm>
          </p:grpSpPr>
          <p:sp>
            <p:nvSpPr>
              <p:cNvPr id="680" name="文本框 25627"/>
              <p:cNvSpPr/>
              <p:nvPr/>
            </p:nvSpPr>
            <p:spPr>
              <a:xfrm>
                <a:off x="7966080" y="4767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1" name="文本框 25628"/>
              <p:cNvSpPr/>
              <p:nvPr/>
            </p:nvSpPr>
            <p:spPr>
              <a:xfrm>
                <a:off x="7970760" y="4411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2" name="直接连接符 25629"/>
              <p:cNvSpPr/>
              <p:nvPr/>
            </p:nvSpPr>
            <p:spPr>
              <a:xfrm>
                <a:off x="7948440" y="48304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393840" y="1413000"/>
            <a:ext cx="501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）阅读与理解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5" name="TextBox 34"/>
          <p:cNvSpPr/>
          <p:nvPr/>
        </p:nvSpPr>
        <p:spPr>
          <a:xfrm>
            <a:off x="212760" y="3438360"/>
            <a:ext cx="9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485640" y="87480"/>
            <a:ext cx="38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9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7" name="TextBox 36"/>
          <p:cNvSpPr/>
          <p:nvPr/>
        </p:nvSpPr>
        <p:spPr>
          <a:xfrm>
            <a:off x="1042920" y="54450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道题怎样解答，请你根据题意先画出线段图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88" name="组合 26631"/>
          <p:cNvGrpSpPr/>
          <p:nvPr/>
        </p:nvGrpSpPr>
        <p:grpSpPr>
          <a:xfrm>
            <a:off x="733320" y="2165400"/>
            <a:ext cx="7726320" cy="1191240"/>
            <a:chOff x="733320" y="2165400"/>
            <a:chExt cx="7726320" cy="1191240"/>
          </a:xfrm>
        </p:grpSpPr>
        <p:sp>
          <p:nvSpPr>
            <p:cNvPr id="689" name="Text Box 7"/>
            <p:cNvSpPr/>
            <p:nvPr/>
          </p:nvSpPr>
          <p:spPr>
            <a:xfrm>
              <a:off x="733320" y="2165400"/>
              <a:ext cx="7726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人心脏跳动的次数随年龄而变化。青少年心跳每分钟约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75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次，婴儿每分钟心跳的次数比青少年多      。婴儿每分钟心跳多少次？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90" name="组合 26633"/>
            <p:cNvGrpSpPr/>
            <p:nvPr/>
          </p:nvGrpSpPr>
          <p:grpSpPr>
            <a:xfrm>
              <a:off x="4665600" y="2509920"/>
              <a:ext cx="522360" cy="815400"/>
              <a:chOff x="4665600" y="2509920"/>
              <a:chExt cx="522360" cy="815400"/>
            </a:xfrm>
          </p:grpSpPr>
          <p:sp>
            <p:nvSpPr>
              <p:cNvPr id="691" name="文本框 26634"/>
              <p:cNvSpPr/>
              <p:nvPr/>
            </p:nvSpPr>
            <p:spPr>
              <a:xfrm>
                <a:off x="4683240" y="2865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92" name="文本框 26635"/>
              <p:cNvSpPr/>
              <p:nvPr/>
            </p:nvSpPr>
            <p:spPr>
              <a:xfrm>
                <a:off x="4687920" y="2509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93" name="直接连接符 26636"/>
              <p:cNvSpPr/>
              <p:nvPr/>
            </p:nvSpPr>
            <p:spPr>
              <a:xfrm>
                <a:off x="4665600" y="29289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694" name="组合 26637"/>
          <p:cNvGrpSpPr/>
          <p:nvPr/>
        </p:nvGrpSpPr>
        <p:grpSpPr>
          <a:xfrm>
            <a:off x="1031760" y="3240000"/>
            <a:ext cx="7429680" cy="2399760"/>
            <a:chOff x="1031760" y="3240000"/>
            <a:chExt cx="7429680" cy="2399760"/>
          </a:xfrm>
        </p:grpSpPr>
        <p:sp>
          <p:nvSpPr>
            <p:cNvPr id="695" name="TextBox 36"/>
            <p:cNvSpPr/>
            <p:nvPr/>
          </p:nvSpPr>
          <p:spPr>
            <a:xfrm>
              <a:off x="1031760" y="3351240"/>
              <a:ext cx="74296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怎样理解“婴儿每分钟心跳的次数比青少年多     ”？（婴儿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每分钟心跳次数与青少年心跳次数在比较，青少年每分钟心跳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次数是单位“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”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；把青少年心跳次数平均分成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5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婴儿心跳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次数是（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5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＋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份，婴儿每分钟心跳次数是（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＋     ）。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96" name="组合 26639"/>
            <p:cNvGrpSpPr/>
            <p:nvPr/>
          </p:nvGrpSpPr>
          <p:grpSpPr>
            <a:xfrm>
              <a:off x="6516720" y="3240000"/>
              <a:ext cx="522360" cy="815400"/>
              <a:chOff x="6516720" y="3240000"/>
              <a:chExt cx="522360" cy="815400"/>
            </a:xfrm>
          </p:grpSpPr>
          <p:sp>
            <p:nvSpPr>
              <p:cNvPr id="697" name="文本框 26640"/>
              <p:cNvSpPr/>
              <p:nvPr/>
            </p:nvSpPr>
            <p:spPr>
              <a:xfrm>
                <a:off x="6534360" y="3595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98" name="文本框 26641"/>
              <p:cNvSpPr/>
              <p:nvPr/>
            </p:nvSpPr>
            <p:spPr>
              <a:xfrm>
                <a:off x="6539040" y="3240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99" name="直接连接符 26642"/>
              <p:cNvSpPr/>
              <p:nvPr/>
            </p:nvSpPr>
            <p:spPr>
              <a:xfrm>
                <a:off x="6516720" y="3659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700" name="组合 26643"/>
            <p:cNvGrpSpPr/>
            <p:nvPr/>
          </p:nvGrpSpPr>
          <p:grpSpPr>
            <a:xfrm>
              <a:off x="6929280" y="4603680"/>
              <a:ext cx="522360" cy="815400"/>
              <a:chOff x="6929280" y="4603680"/>
              <a:chExt cx="522360" cy="815400"/>
            </a:xfrm>
          </p:grpSpPr>
          <p:sp>
            <p:nvSpPr>
              <p:cNvPr id="701" name="文本框 26644"/>
              <p:cNvSpPr/>
              <p:nvPr/>
            </p:nvSpPr>
            <p:spPr>
              <a:xfrm>
                <a:off x="6946920" y="49593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02" name="文本框 26645"/>
              <p:cNvSpPr/>
              <p:nvPr/>
            </p:nvSpPr>
            <p:spPr>
              <a:xfrm>
                <a:off x="6951600" y="4603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03" name="直接连接符 26646"/>
              <p:cNvSpPr/>
              <p:nvPr/>
            </p:nvSpPr>
            <p:spPr>
              <a:xfrm>
                <a:off x="6929280" y="50227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3:43Z</dcterms:modified>
  <cp:revision>3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